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DB5-30E7-47DF-9B5A-D5C3A212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7C8-06C1-4F54-BD18-337813F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C01-CBBC-4AB7-8505-EF616A5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65C-BCF4-4E82-AC56-1458DD05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F86-FCBE-460C-B3DE-42F5CBDE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6C4-EA86-4CF6-ABE4-7B67C725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48D-AC79-4694-AD15-267A9F0C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D73-49B3-4461-B914-2F3BC5B4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8DA-EF3E-4C80-8C2F-33D1CA1E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D5B-09EE-4EE7-8255-AEB8C5F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C9B-9A8C-4CAB-82E4-17525EB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BC6-A137-48C0-9963-44037E9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452-6735-40CD-85C1-7829465E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Objectiv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To identify transformations in figu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gure is reflected in a line creating a mirror ima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can be over the y or x-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505320"/>
            <a:ext cx="1905120" cy="274320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3526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943600" y="3505320"/>
            <a:ext cx="1905120" cy="274320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57920" y="830160"/>
            <a:ext cx="911160" cy="169920"/>
          </a:xfrm>
          <a:custGeom>
            <a:avLst/>
            <a:gdLst/>
            <a:ahLst/>
            <a:rect l="l" t="t" r="r" b="b"/>
            <a:pathLst>
              <a:path w="2531" h="472">
                <a:moveTo>
                  <a:pt x="16272" y="2480"/>
                </a:moveTo>
                <a:cubicBezTo>
                  <a:pt x="16359" y="2480"/>
                  <a:pt x="16434" y="2498"/>
                  <a:pt x="16520" y="2505"/>
                </a:cubicBezTo>
              </a:path>
              <a:path w="2531" h="472">
                <a:moveTo>
                  <a:pt x="16743" y="2456"/>
                </a:moveTo>
                <a:cubicBezTo>
                  <a:pt x="16774" y="2545"/>
                  <a:pt x="16803" y="2650"/>
                  <a:pt x="16842" y="2729"/>
                </a:cubicBezTo>
                <a:cubicBezTo>
                  <a:pt x="16820" y="2613"/>
                  <a:pt x="16833" y="2543"/>
                  <a:pt x="16892" y="2431"/>
                </a:cubicBezTo>
                <a:cubicBezTo>
                  <a:pt x="17006" y="2216"/>
                  <a:pt x="17139" y="2463"/>
                  <a:pt x="17190" y="2580"/>
                </a:cubicBezTo>
                <a:cubicBezTo>
                  <a:pt x="17198" y="2605"/>
                  <a:pt x="17206" y="2629"/>
                  <a:pt x="17214" y="2654"/>
                </a:cubicBezTo>
                <a:cubicBezTo>
                  <a:pt x="17192" y="2517"/>
                  <a:pt x="17175" y="2425"/>
                  <a:pt x="17314" y="2332"/>
                </a:cubicBezTo>
                <a:cubicBezTo>
                  <a:pt x="17347" y="2324"/>
                  <a:pt x="17380" y="2315"/>
                  <a:pt x="17413" y="2307"/>
                </a:cubicBezTo>
                <a:cubicBezTo>
                  <a:pt x="17525" y="2459"/>
                  <a:pt x="17565" y="2565"/>
                  <a:pt x="17487" y="2753"/>
                </a:cubicBezTo>
                <a:cubicBezTo>
                  <a:pt x="17479" y="2761"/>
                  <a:pt x="17470" y="2770"/>
                  <a:pt x="17462" y="2778"/>
                </a:cubicBezTo>
              </a:path>
              <a:path w="2531" h="472">
                <a:moveTo>
                  <a:pt x="17835" y="2406"/>
                </a:moveTo>
                <a:cubicBezTo>
                  <a:pt x="17717" y="2430"/>
                  <a:pt x="17518" y="2510"/>
                  <a:pt x="17587" y="2679"/>
                </a:cubicBezTo>
                <a:cubicBezTo>
                  <a:pt x="17672" y="2887"/>
                  <a:pt x="18028" y="2787"/>
                  <a:pt x="18033" y="2580"/>
                </a:cubicBezTo>
                <a:cubicBezTo>
                  <a:pt x="18036" y="2460"/>
                  <a:pt x="17914" y="2447"/>
                  <a:pt x="17835" y="2431"/>
                </a:cubicBezTo>
              </a:path>
              <a:path w="2531" h="472">
                <a:moveTo>
                  <a:pt x="18157" y="2381"/>
                </a:moveTo>
                <a:cubicBezTo>
                  <a:pt x="18219" y="2490"/>
                  <a:pt x="18342" y="2583"/>
                  <a:pt x="18405" y="2704"/>
                </a:cubicBezTo>
                <a:cubicBezTo>
                  <a:pt x="18405" y="2712"/>
                  <a:pt x="18405" y="2721"/>
                  <a:pt x="18405" y="2729"/>
                </a:cubicBezTo>
                <a:cubicBezTo>
                  <a:pt x="18419" y="2616"/>
                  <a:pt x="18460" y="2515"/>
                  <a:pt x="18479" y="2406"/>
                </a:cubicBezTo>
              </a:path>
              <a:path w="2531" h="472">
                <a:moveTo>
                  <a:pt x="18628" y="2505"/>
                </a:moveTo>
                <a:cubicBezTo>
                  <a:pt x="18726" y="2464"/>
                  <a:pt x="18807" y="2460"/>
                  <a:pt x="18777" y="2356"/>
                </a:cubicBezTo>
                <a:cubicBezTo>
                  <a:pt x="18675" y="2366"/>
                  <a:pt x="18490" y="2416"/>
                  <a:pt x="18579" y="2580"/>
                </a:cubicBezTo>
                <a:cubicBezTo>
                  <a:pt x="18679" y="2655"/>
                  <a:pt x="18713" y="2679"/>
                  <a:pt x="18802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54920" y="847800"/>
            <a:ext cx="839880" cy="179280"/>
          </a:xfrm>
          <a:custGeom>
            <a:avLst/>
            <a:gdLst/>
            <a:ahLst/>
            <a:rect l="l" t="t" r="r" b="b"/>
            <a:pathLst>
              <a:path w="2332" h="498">
                <a:moveTo>
                  <a:pt x="19869" y="2356"/>
                </a:moveTo>
                <a:cubicBezTo>
                  <a:pt x="19785" y="2377"/>
                  <a:pt x="19765" y="2378"/>
                  <a:pt x="19720" y="2406"/>
                </a:cubicBezTo>
                <a:cubicBezTo>
                  <a:pt x="19754" y="2546"/>
                  <a:pt x="19922" y="2597"/>
                  <a:pt x="20042" y="2679"/>
                </a:cubicBezTo>
                <a:cubicBezTo>
                  <a:pt x="19865" y="2841"/>
                  <a:pt x="19772" y="2822"/>
                  <a:pt x="19596" y="2679"/>
                </a:cubicBezTo>
              </a:path>
              <a:path w="2332" h="498">
                <a:moveTo>
                  <a:pt x="20538" y="2580"/>
                </a:moveTo>
                <a:cubicBezTo>
                  <a:pt x="20538" y="2495"/>
                  <a:pt x="20537" y="2417"/>
                  <a:pt x="20414" y="2456"/>
                </a:cubicBezTo>
                <a:cubicBezTo>
                  <a:pt x="20275" y="2500"/>
                  <a:pt x="20101" y="2776"/>
                  <a:pt x="20365" y="2753"/>
                </a:cubicBezTo>
                <a:cubicBezTo>
                  <a:pt x="20471" y="2701"/>
                  <a:pt x="20507" y="2677"/>
                  <a:pt x="20513" y="2580"/>
                </a:cubicBezTo>
                <a:cubicBezTo>
                  <a:pt x="20540" y="2672"/>
                  <a:pt x="20610" y="2836"/>
                  <a:pt x="20737" y="2753"/>
                </a:cubicBezTo>
                <a:cubicBezTo>
                  <a:pt x="20845" y="2682"/>
                  <a:pt x="20845" y="2462"/>
                  <a:pt x="20811" y="2729"/>
                </a:cubicBezTo>
                <a:cubicBezTo>
                  <a:pt x="20811" y="2745"/>
                  <a:pt x="20811" y="2762"/>
                  <a:pt x="20811" y="2778"/>
                </a:cubicBezTo>
                <a:cubicBezTo>
                  <a:pt x="20830" y="2682"/>
                  <a:pt x="20887" y="2525"/>
                  <a:pt x="20985" y="2480"/>
                </a:cubicBezTo>
                <a:cubicBezTo>
                  <a:pt x="21077" y="2438"/>
                  <a:pt x="21107" y="2745"/>
                  <a:pt x="21109" y="2753"/>
                </a:cubicBezTo>
                <a:cubicBezTo>
                  <a:pt x="21109" y="2770"/>
                  <a:pt x="21109" y="2786"/>
                  <a:pt x="21109" y="2803"/>
                </a:cubicBezTo>
                <a:cubicBezTo>
                  <a:pt x="21109" y="2667"/>
                  <a:pt x="21208" y="2566"/>
                  <a:pt x="21307" y="2480"/>
                </a:cubicBezTo>
                <a:cubicBezTo>
                  <a:pt x="21385" y="2413"/>
                  <a:pt x="21382" y="2774"/>
                  <a:pt x="21382" y="2803"/>
                </a:cubicBezTo>
                <a:cubicBezTo>
                  <a:pt x="21382" y="2811"/>
                  <a:pt x="21382" y="2820"/>
                  <a:pt x="21382" y="2828"/>
                </a:cubicBezTo>
              </a:path>
              <a:path w="2332" h="498">
                <a:moveTo>
                  <a:pt x="21630" y="2679"/>
                </a:moveTo>
                <a:cubicBezTo>
                  <a:pt x="21671" y="2665"/>
                  <a:pt x="21731" y="2597"/>
                  <a:pt x="21779" y="2555"/>
                </a:cubicBezTo>
                <a:cubicBezTo>
                  <a:pt x="21594" y="2578"/>
                  <a:pt x="21558" y="2625"/>
                  <a:pt x="21481" y="2778"/>
                </a:cubicBezTo>
                <a:cubicBezTo>
                  <a:pt x="21681" y="2863"/>
                  <a:pt x="21708" y="2832"/>
                  <a:pt x="21927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61200" y="768240"/>
            <a:ext cx="911520" cy="241560"/>
          </a:xfrm>
          <a:custGeom>
            <a:avLst/>
            <a:gdLst/>
            <a:ahLst/>
            <a:rect l="l" t="t" r="r" b="b"/>
            <a:pathLst>
              <a:path w="2532" h="671">
                <a:moveTo>
                  <a:pt x="23019" y="2580"/>
                </a:moveTo>
                <a:cubicBezTo>
                  <a:pt x="22968" y="2428"/>
                  <a:pt x="22847" y="2374"/>
                  <a:pt x="22721" y="2530"/>
                </a:cubicBezTo>
                <a:cubicBezTo>
                  <a:pt x="22675" y="2644"/>
                  <a:pt x="22656" y="2675"/>
                  <a:pt x="22696" y="2753"/>
                </a:cubicBezTo>
                <a:cubicBezTo>
                  <a:pt x="22929" y="2781"/>
                  <a:pt x="23036" y="2621"/>
                  <a:pt x="23044" y="2356"/>
                </a:cubicBezTo>
                <a:cubicBezTo>
                  <a:pt x="23036" y="2298"/>
                  <a:pt x="23027" y="2241"/>
                  <a:pt x="23019" y="2183"/>
                </a:cubicBezTo>
                <a:cubicBezTo>
                  <a:pt x="22945" y="2060"/>
                  <a:pt x="23004" y="2363"/>
                  <a:pt x="23019" y="2505"/>
                </a:cubicBezTo>
                <a:cubicBezTo>
                  <a:pt x="23032" y="2623"/>
                  <a:pt x="23004" y="2794"/>
                  <a:pt x="23068" y="2729"/>
                </a:cubicBezTo>
              </a:path>
              <a:path w="2532" h="671">
                <a:moveTo>
                  <a:pt x="23242" y="2456"/>
                </a:moveTo>
                <a:cubicBezTo>
                  <a:pt x="23234" y="2519"/>
                  <a:pt x="23217" y="2797"/>
                  <a:pt x="23217" y="2778"/>
                </a:cubicBezTo>
              </a:path>
              <a:path w="2532" h="671">
                <a:moveTo>
                  <a:pt x="23292" y="2381"/>
                </a:moveTo>
                <a:cubicBezTo>
                  <a:pt x="23292" y="2373"/>
                  <a:pt x="23292" y="2364"/>
                  <a:pt x="23292" y="2356"/>
                </a:cubicBezTo>
              </a:path>
              <a:path w="2532" h="671">
                <a:moveTo>
                  <a:pt x="23292" y="2356"/>
                </a:moveTo>
                <a:lnTo>
                  <a:pt x="23292" y="2356"/>
                </a:lnTo>
              </a:path>
              <a:path w="2532" h="671">
                <a:moveTo>
                  <a:pt x="23416" y="2604"/>
                </a:moveTo>
                <a:cubicBezTo>
                  <a:pt x="23435" y="2662"/>
                  <a:pt x="23443" y="2669"/>
                  <a:pt x="23440" y="2704"/>
                </a:cubicBezTo>
                <a:cubicBezTo>
                  <a:pt x="23491" y="2569"/>
                  <a:pt x="23457" y="2515"/>
                  <a:pt x="23589" y="2431"/>
                </a:cubicBezTo>
              </a:path>
              <a:path w="2532" h="671">
                <a:moveTo>
                  <a:pt x="23688" y="2580"/>
                </a:moveTo>
                <a:cubicBezTo>
                  <a:pt x="23731" y="2571"/>
                  <a:pt x="23753" y="2558"/>
                  <a:pt x="23788" y="2530"/>
                </a:cubicBezTo>
                <a:cubicBezTo>
                  <a:pt x="23717" y="2530"/>
                  <a:pt x="23629" y="2575"/>
                  <a:pt x="23614" y="2654"/>
                </a:cubicBezTo>
                <a:cubicBezTo>
                  <a:pt x="23653" y="2732"/>
                  <a:pt x="23692" y="2748"/>
                  <a:pt x="23788" y="2704"/>
                </a:cubicBezTo>
              </a:path>
              <a:path w="2532" h="671">
                <a:moveTo>
                  <a:pt x="24110" y="2505"/>
                </a:moveTo>
                <a:cubicBezTo>
                  <a:pt x="24014" y="2409"/>
                  <a:pt x="23873" y="2499"/>
                  <a:pt x="23887" y="2654"/>
                </a:cubicBezTo>
                <a:cubicBezTo>
                  <a:pt x="23904" y="2679"/>
                  <a:pt x="23920" y="2704"/>
                  <a:pt x="23937" y="2729"/>
                </a:cubicBezTo>
                <a:cubicBezTo>
                  <a:pt x="24200" y="2757"/>
                  <a:pt x="24237" y="2642"/>
                  <a:pt x="24160" y="2381"/>
                </a:cubicBezTo>
                <a:cubicBezTo>
                  <a:pt x="24122" y="2287"/>
                  <a:pt x="24129" y="2269"/>
                  <a:pt x="24085" y="2232"/>
                </a:cubicBezTo>
                <a:cubicBezTo>
                  <a:pt x="24068" y="2389"/>
                  <a:pt x="24061" y="2543"/>
                  <a:pt x="24061" y="2704"/>
                </a:cubicBezTo>
                <a:cubicBezTo>
                  <a:pt x="24061" y="2720"/>
                  <a:pt x="24061" y="2737"/>
                  <a:pt x="24061" y="2753"/>
                </a:cubicBezTo>
              </a:path>
              <a:path w="2532" h="671">
                <a:moveTo>
                  <a:pt x="24011" y="2431"/>
                </a:moveTo>
                <a:cubicBezTo>
                  <a:pt x="24102" y="2408"/>
                  <a:pt x="24196" y="2381"/>
                  <a:pt x="24284" y="2431"/>
                </a:cubicBezTo>
                <a:cubicBezTo>
                  <a:pt x="24343" y="2465"/>
                  <a:pt x="24349" y="2640"/>
                  <a:pt x="24358" y="2704"/>
                </a:cubicBezTo>
              </a:path>
              <a:path w="2532" h="671">
                <a:moveTo>
                  <a:pt x="24259" y="2332"/>
                </a:moveTo>
                <a:lnTo>
                  <a:pt x="24259" y="2332"/>
                </a:lnTo>
                <a:lnTo>
                  <a:pt x="24259" y="2332"/>
                </a:lnTo>
              </a:path>
              <a:path w="2532" h="671">
                <a:moveTo>
                  <a:pt x="24581" y="2530"/>
                </a:moveTo>
                <a:cubicBezTo>
                  <a:pt x="24480" y="2551"/>
                  <a:pt x="24469" y="2616"/>
                  <a:pt x="24433" y="2704"/>
                </a:cubicBezTo>
                <a:cubicBezTo>
                  <a:pt x="24507" y="2727"/>
                  <a:pt x="24705" y="2757"/>
                  <a:pt x="24681" y="2604"/>
                </a:cubicBezTo>
                <a:cubicBezTo>
                  <a:pt x="24671" y="2537"/>
                  <a:pt x="24584" y="2547"/>
                  <a:pt x="24581" y="2480"/>
                </a:cubicBezTo>
                <a:cubicBezTo>
                  <a:pt x="24723" y="2521"/>
                  <a:pt x="24782" y="2568"/>
                  <a:pt x="24829" y="2704"/>
                </a:cubicBezTo>
                <a:cubicBezTo>
                  <a:pt x="24829" y="2712"/>
                  <a:pt x="24829" y="2721"/>
                  <a:pt x="24829" y="2729"/>
                </a:cubicBezTo>
                <a:cubicBezTo>
                  <a:pt x="24868" y="2611"/>
                  <a:pt x="24948" y="2561"/>
                  <a:pt x="25053" y="2505"/>
                </a:cubicBezTo>
                <a:cubicBezTo>
                  <a:pt x="25133" y="2608"/>
                  <a:pt x="25164" y="2676"/>
                  <a:pt x="25202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84920" y="1133640"/>
            <a:ext cx="500040" cy="215640"/>
          </a:xfrm>
          <a:custGeom>
            <a:avLst/>
            <a:gdLst/>
            <a:ahLst/>
            <a:rect l="l" t="t" r="r" b="b"/>
            <a:pathLst>
              <a:path w="1390" h="597">
                <a:moveTo>
                  <a:pt x="16346" y="3150"/>
                </a:moveTo>
                <a:cubicBezTo>
                  <a:pt x="16390" y="3355"/>
                  <a:pt x="16446" y="3536"/>
                  <a:pt x="16446" y="3746"/>
                </a:cubicBezTo>
                <a:cubicBezTo>
                  <a:pt x="16504" y="3570"/>
                  <a:pt x="16562" y="3475"/>
                  <a:pt x="16718" y="3423"/>
                </a:cubicBezTo>
                <a:cubicBezTo>
                  <a:pt x="16752" y="3590"/>
                  <a:pt x="16714" y="3828"/>
                  <a:pt x="16446" y="3721"/>
                </a:cubicBezTo>
                <a:cubicBezTo>
                  <a:pt x="16429" y="3696"/>
                  <a:pt x="16413" y="3671"/>
                  <a:pt x="16396" y="3646"/>
                </a:cubicBezTo>
              </a:path>
              <a:path w="1390" h="597">
                <a:moveTo>
                  <a:pt x="16718" y="3448"/>
                </a:moveTo>
                <a:cubicBezTo>
                  <a:pt x="16760" y="3545"/>
                  <a:pt x="16810" y="3631"/>
                  <a:pt x="16867" y="3721"/>
                </a:cubicBezTo>
                <a:cubicBezTo>
                  <a:pt x="17011" y="3685"/>
                  <a:pt x="17039" y="3611"/>
                  <a:pt x="17115" y="3473"/>
                </a:cubicBezTo>
                <a:cubicBezTo>
                  <a:pt x="17115" y="3564"/>
                  <a:pt x="17116" y="3732"/>
                  <a:pt x="17264" y="3671"/>
                </a:cubicBezTo>
                <a:cubicBezTo>
                  <a:pt x="17305" y="3638"/>
                  <a:pt x="17347" y="3605"/>
                  <a:pt x="17388" y="3572"/>
                </a:cubicBezTo>
              </a:path>
              <a:path w="1390" h="597">
                <a:moveTo>
                  <a:pt x="17388" y="3175"/>
                </a:moveTo>
                <a:cubicBezTo>
                  <a:pt x="17415" y="3331"/>
                  <a:pt x="17443" y="3489"/>
                  <a:pt x="17462" y="3646"/>
                </a:cubicBezTo>
              </a:path>
              <a:path w="1390" h="597">
                <a:moveTo>
                  <a:pt x="17314" y="3398"/>
                </a:moveTo>
                <a:cubicBezTo>
                  <a:pt x="17522" y="3372"/>
                  <a:pt x="17597" y="3361"/>
                  <a:pt x="17735" y="33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80160" y="1152360"/>
            <a:ext cx="463680" cy="177840"/>
          </a:xfrm>
          <a:custGeom>
            <a:avLst/>
            <a:gdLst/>
            <a:ahLst/>
            <a:rect l="l" t="t" r="r" b="b"/>
            <a:pathLst>
              <a:path w="1291" h="497">
                <a:moveTo>
                  <a:pt x="18554" y="3497"/>
                </a:moveTo>
                <a:cubicBezTo>
                  <a:pt x="18571" y="3547"/>
                  <a:pt x="18587" y="3596"/>
                  <a:pt x="18604" y="3646"/>
                </a:cubicBezTo>
                <a:cubicBezTo>
                  <a:pt x="18604" y="3691"/>
                  <a:pt x="18632" y="3476"/>
                  <a:pt x="18653" y="3448"/>
                </a:cubicBezTo>
                <a:cubicBezTo>
                  <a:pt x="18802" y="3247"/>
                  <a:pt x="18966" y="3450"/>
                  <a:pt x="18976" y="3621"/>
                </a:cubicBezTo>
                <a:cubicBezTo>
                  <a:pt x="18957" y="3679"/>
                  <a:pt x="18948" y="3722"/>
                  <a:pt x="18951" y="3671"/>
                </a:cubicBezTo>
              </a:path>
              <a:path w="1291" h="497">
                <a:moveTo>
                  <a:pt x="19149" y="3373"/>
                </a:moveTo>
                <a:cubicBezTo>
                  <a:pt x="19106" y="3469"/>
                  <a:pt x="18980" y="3764"/>
                  <a:pt x="19248" y="3671"/>
                </a:cubicBezTo>
                <a:cubicBezTo>
                  <a:pt x="19447" y="3602"/>
                  <a:pt x="19319" y="3453"/>
                  <a:pt x="19248" y="3349"/>
                </a:cubicBezTo>
              </a:path>
              <a:path w="1291" h="497">
                <a:moveTo>
                  <a:pt x="19422" y="3200"/>
                </a:moveTo>
                <a:cubicBezTo>
                  <a:pt x="19433" y="3347"/>
                  <a:pt x="19506" y="3547"/>
                  <a:pt x="19472" y="3671"/>
                </a:cubicBezTo>
              </a:path>
              <a:path w="1291" h="497">
                <a:moveTo>
                  <a:pt x="19372" y="3398"/>
                </a:moveTo>
                <a:cubicBezTo>
                  <a:pt x="19595" y="3370"/>
                  <a:pt x="19685" y="3362"/>
                  <a:pt x="19844" y="3373"/>
                </a:cubicBezTo>
              </a:path>
              <a:path w="1291" h="497">
                <a:moveTo>
                  <a:pt x="19844" y="3373"/>
                </a:moveTo>
                <a:lnTo>
                  <a:pt x="19844" y="337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23120" y="1187280"/>
            <a:ext cx="633600" cy="135000"/>
          </a:xfrm>
          <a:custGeom>
            <a:avLst/>
            <a:gdLst/>
            <a:ahLst/>
            <a:rect l="l" t="t" r="r" b="b"/>
            <a:pathLst>
              <a:path w="1762" h="373">
                <a:moveTo>
                  <a:pt x="20464" y="3299"/>
                </a:moveTo>
                <a:cubicBezTo>
                  <a:pt x="20431" y="3307"/>
                  <a:pt x="20398" y="3316"/>
                  <a:pt x="20365" y="3324"/>
                </a:cubicBezTo>
                <a:cubicBezTo>
                  <a:pt x="20395" y="3479"/>
                  <a:pt x="20566" y="3435"/>
                  <a:pt x="20662" y="3522"/>
                </a:cubicBezTo>
                <a:cubicBezTo>
                  <a:pt x="20704" y="3560"/>
                  <a:pt x="20438" y="3640"/>
                  <a:pt x="20340" y="3522"/>
                </a:cubicBezTo>
              </a:path>
              <a:path w="1762" h="373">
                <a:moveTo>
                  <a:pt x="20935" y="3349"/>
                </a:moveTo>
                <a:cubicBezTo>
                  <a:pt x="20807" y="3408"/>
                  <a:pt x="20795" y="3424"/>
                  <a:pt x="20737" y="3547"/>
                </a:cubicBezTo>
                <a:cubicBezTo>
                  <a:pt x="20855" y="3623"/>
                  <a:pt x="20929" y="3683"/>
                  <a:pt x="21010" y="3522"/>
                </a:cubicBezTo>
                <a:cubicBezTo>
                  <a:pt x="21072" y="3543"/>
                  <a:pt x="21118" y="3665"/>
                  <a:pt x="21233" y="3621"/>
                </a:cubicBezTo>
                <a:cubicBezTo>
                  <a:pt x="21259" y="3611"/>
                  <a:pt x="21393" y="3396"/>
                  <a:pt x="21307" y="3522"/>
                </a:cubicBezTo>
                <a:cubicBezTo>
                  <a:pt x="21307" y="3648"/>
                  <a:pt x="21296" y="3680"/>
                  <a:pt x="21332" y="3547"/>
                </a:cubicBezTo>
                <a:cubicBezTo>
                  <a:pt x="21369" y="3408"/>
                  <a:pt x="21376" y="3388"/>
                  <a:pt x="21456" y="3547"/>
                </a:cubicBezTo>
                <a:cubicBezTo>
                  <a:pt x="21464" y="3572"/>
                  <a:pt x="21473" y="3596"/>
                  <a:pt x="21481" y="3621"/>
                </a:cubicBezTo>
                <a:cubicBezTo>
                  <a:pt x="21501" y="3481"/>
                  <a:pt x="21535" y="3435"/>
                  <a:pt x="21654" y="3423"/>
                </a:cubicBezTo>
                <a:cubicBezTo>
                  <a:pt x="21670" y="3506"/>
                  <a:pt x="21679" y="3561"/>
                  <a:pt x="21679" y="3646"/>
                </a:cubicBezTo>
              </a:path>
              <a:path w="1762" h="373">
                <a:moveTo>
                  <a:pt x="21803" y="3497"/>
                </a:moveTo>
                <a:cubicBezTo>
                  <a:pt x="21869" y="3469"/>
                  <a:pt x="21948" y="3455"/>
                  <a:pt x="21977" y="3398"/>
                </a:cubicBezTo>
                <a:cubicBezTo>
                  <a:pt x="21906" y="3424"/>
                  <a:pt x="21666" y="3618"/>
                  <a:pt x="21903" y="3671"/>
                </a:cubicBezTo>
                <a:cubicBezTo>
                  <a:pt x="21969" y="3663"/>
                  <a:pt x="22035" y="3654"/>
                  <a:pt x="22101" y="36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32840" y="1177920"/>
            <a:ext cx="223920" cy="11736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22944" y="3299"/>
                </a:moveTo>
                <a:cubicBezTo>
                  <a:pt x="22948" y="3346"/>
                  <a:pt x="22953" y="3588"/>
                  <a:pt x="23019" y="3597"/>
                </a:cubicBezTo>
                <a:cubicBezTo>
                  <a:pt x="23035" y="3589"/>
                  <a:pt x="23052" y="3580"/>
                  <a:pt x="23068" y="3572"/>
                </a:cubicBezTo>
              </a:path>
              <a:path w="621" h="324">
                <a:moveTo>
                  <a:pt x="23292" y="3274"/>
                </a:moveTo>
                <a:cubicBezTo>
                  <a:pt x="23292" y="3386"/>
                  <a:pt x="23301" y="3487"/>
                  <a:pt x="23316" y="3597"/>
                </a:cubicBezTo>
              </a:path>
              <a:path w="621" h="324">
                <a:moveTo>
                  <a:pt x="23316" y="3597"/>
                </a:moveTo>
                <a:lnTo>
                  <a:pt x="23316" y="3597"/>
                </a:lnTo>
              </a:path>
              <a:path w="621" h="324">
                <a:moveTo>
                  <a:pt x="22870" y="3448"/>
                </a:moveTo>
                <a:cubicBezTo>
                  <a:pt x="23019" y="3448"/>
                  <a:pt x="23167" y="3448"/>
                  <a:pt x="23316" y="3448"/>
                </a:cubicBezTo>
              </a:path>
              <a:path w="621" h="324">
                <a:moveTo>
                  <a:pt x="22969" y="3547"/>
                </a:moveTo>
                <a:cubicBezTo>
                  <a:pt x="23144" y="3541"/>
                  <a:pt x="23315" y="3529"/>
                  <a:pt x="23490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634240" y="1170000"/>
            <a:ext cx="206640" cy="1429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24135" y="3448"/>
                </a:moveTo>
                <a:cubicBezTo>
                  <a:pt x="24047" y="3470"/>
                  <a:pt x="24045" y="3491"/>
                  <a:pt x="23986" y="3572"/>
                </a:cubicBezTo>
                <a:cubicBezTo>
                  <a:pt x="24032" y="3604"/>
                  <a:pt x="24166" y="3717"/>
                  <a:pt x="24185" y="3597"/>
                </a:cubicBezTo>
                <a:cubicBezTo>
                  <a:pt x="24203" y="3481"/>
                  <a:pt x="24153" y="3483"/>
                  <a:pt x="24110" y="3398"/>
                </a:cubicBezTo>
              </a:path>
              <a:path w="572" h="398">
                <a:moveTo>
                  <a:pt x="24532" y="3249"/>
                </a:moveTo>
                <a:cubicBezTo>
                  <a:pt x="24413" y="3275"/>
                  <a:pt x="24370" y="3338"/>
                  <a:pt x="24408" y="3473"/>
                </a:cubicBezTo>
                <a:cubicBezTo>
                  <a:pt x="24435" y="3569"/>
                  <a:pt x="24457" y="3561"/>
                  <a:pt x="24457" y="3646"/>
                </a:cubicBezTo>
              </a:path>
              <a:path w="572" h="398">
                <a:moveTo>
                  <a:pt x="24383" y="3423"/>
                </a:moveTo>
                <a:cubicBezTo>
                  <a:pt x="24482" y="3423"/>
                  <a:pt x="24499" y="3423"/>
                  <a:pt x="24557" y="34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23080" y="1419120"/>
            <a:ext cx="963720" cy="268560"/>
          </a:xfrm>
          <a:custGeom>
            <a:avLst/>
            <a:gdLst/>
            <a:ahLst/>
            <a:rect l="l" t="t" r="r" b="b"/>
            <a:pathLst>
              <a:path w="2680" h="745">
                <a:moveTo>
                  <a:pt x="19224" y="3944"/>
                </a:moveTo>
                <a:cubicBezTo>
                  <a:pt x="19134" y="3953"/>
                  <a:pt x="19097" y="3968"/>
                  <a:pt x="19025" y="4018"/>
                </a:cubicBezTo>
                <a:cubicBezTo>
                  <a:pt x="19093" y="4138"/>
                  <a:pt x="19212" y="4183"/>
                  <a:pt x="19323" y="4266"/>
                </a:cubicBezTo>
                <a:cubicBezTo>
                  <a:pt x="19142" y="4370"/>
                  <a:pt x="18985" y="4452"/>
                  <a:pt x="19000" y="4242"/>
                </a:cubicBezTo>
              </a:path>
              <a:path w="2680" h="745">
                <a:moveTo>
                  <a:pt x="19472" y="4192"/>
                </a:moveTo>
                <a:cubicBezTo>
                  <a:pt x="19495" y="4265"/>
                  <a:pt x="19664" y="4643"/>
                  <a:pt x="19596" y="4688"/>
                </a:cubicBezTo>
                <a:cubicBezTo>
                  <a:pt x="19534" y="4367"/>
                  <a:pt x="19535" y="4269"/>
                  <a:pt x="19794" y="4093"/>
                </a:cubicBezTo>
                <a:cubicBezTo>
                  <a:pt x="19855" y="4253"/>
                  <a:pt x="19943" y="4558"/>
                  <a:pt x="19621" y="4415"/>
                </a:cubicBezTo>
                <a:cubicBezTo>
                  <a:pt x="19579" y="4382"/>
                  <a:pt x="19538" y="4349"/>
                  <a:pt x="19496" y="4316"/>
                </a:cubicBezTo>
              </a:path>
              <a:path w="2680" h="745">
                <a:moveTo>
                  <a:pt x="20290" y="4167"/>
                </a:moveTo>
                <a:cubicBezTo>
                  <a:pt x="20108" y="4133"/>
                  <a:pt x="20065" y="4198"/>
                  <a:pt x="20017" y="4366"/>
                </a:cubicBezTo>
                <a:cubicBezTo>
                  <a:pt x="20172" y="4384"/>
                  <a:pt x="20240" y="4417"/>
                  <a:pt x="20290" y="4242"/>
                </a:cubicBezTo>
                <a:cubicBezTo>
                  <a:pt x="20331" y="4423"/>
                  <a:pt x="20409" y="4381"/>
                  <a:pt x="20563" y="4341"/>
                </a:cubicBezTo>
              </a:path>
              <a:path w="2680" h="745">
                <a:moveTo>
                  <a:pt x="20737" y="4242"/>
                </a:moveTo>
                <a:cubicBezTo>
                  <a:pt x="20729" y="4225"/>
                  <a:pt x="20720" y="4209"/>
                  <a:pt x="20712" y="4192"/>
                </a:cubicBezTo>
                <a:cubicBezTo>
                  <a:pt x="20656" y="4211"/>
                  <a:pt x="20472" y="4360"/>
                  <a:pt x="20638" y="4415"/>
                </a:cubicBezTo>
                <a:cubicBezTo>
                  <a:pt x="20786" y="4415"/>
                  <a:pt x="20836" y="4415"/>
                  <a:pt x="20935" y="4415"/>
                </a:cubicBezTo>
              </a:path>
              <a:path w="2680" h="745">
                <a:moveTo>
                  <a:pt x="21034" y="4291"/>
                </a:moveTo>
                <a:cubicBezTo>
                  <a:pt x="21093" y="4241"/>
                  <a:pt x="21177" y="4212"/>
                  <a:pt x="21134" y="4167"/>
                </a:cubicBezTo>
                <a:cubicBezTo>
                  <a:pt x="21010" y="4186"/>
                  <a:pt x="21000" y="4190"/>
                  <a:pt x="20935" y="4291"/>
                </a:cubicBezTo>
                <a:cubicBezTo>
                  <a:pt x="20993" y="4451"/>
                  <a:pt x="21089" y="4433"/>
                  <a:pt x="21258" y="4415"/>
                </a:cubicBezTo>
              </a:path>
              <a:path w="2680" h="745">
                <a:moveTo>
                  <a:pt x="21555" y="4118"/>
                </a:moveTo>
                <a:cubicBezTo>
                  <a:pt x="21476" y="4123"/>
                  <a:pt x="21409" y="4131"/>
                  <a:pt x="21332" y="4142"/>
                </a:cubicBezTo>
                <a:cubicBezTo>
                  <a:pt x="21381" y="4199"/>
                  <a:pt x="21626" y="4295"/>
                  <a:pt x="21630" y="4366"/>
                </a:cubicBezTo>
                <a:cubicBezTo>
                  <a:pt x="21636" y="4476"/>
                  <a:pt x="21410" y="4422"/>
                  <a:pt x="21357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76760" y="3178080"/>
            <a:ext cx="546120" cy="216000"/>
          </a:xfrm>
          <a:custGeom>
            <a:avLst/>
            <a:gdLst/>
            <a:ahLst/>
            <a:rect l="l" t="t" r="r" b="b"/>
            <a:pathLst>
              <a:path w="1514" h="597">
                <a:moveTo>
                  <a:pt x="10517" y="8930"/>
                </a:moveTo>
                <a:cubicBezTo>
                  <a:pt x="10501" y="8897"/>
                  <a:pt x="10470" y="8831"/>
                  <a:pt x="10517" y="8855"/>
                </a:cubicBezTo>
                <a:cubicBezTo>
                  <a:pt x="10560" y="9039"/>
                  <a:pt x="10623" y="9219"/>
                  <a:pt x="10666" y="9401"/>
                </a:cubicBezTo>
                <a:cubicBezTo>
                  <a:pt x="10666" y="9409"/>
                  <a:pt x="10666" y="9418"/>
                  <a:pt x="10666" y="9426"/>
                </a:cubicBezTo>
              </a:path>
              <a:path w="1514" h="597">
                <a:moveTo>
                  <a:pt x="10864" y="9029"/>
                </a:moveTo>
                <a:cubicBezTo>
                  <a:pt x="10897" y="9080"/>
                  <a:pt x="10927" y="9131"/>
                  <a:pt x="10964" y="9178"/>
                </a:cubicBezTo>
              </a:path>
              <a:path w="1514" h="597">
                <a:moveTo>
                  <a:pt x="10840" y="8930"/>
                </a:moveTo>
                <a:lnTo>
                  <a:pt x="10840" y="8930"/>
                </a:lnTo>
                <a:lnTo>
                  <a:pt x="10840" y="8930"/>
                </a:lnTo>
              </a:path>
              <a:path w="1514" h="597">
                <a:moveTo>
                  <a:pt x="10840" y="8930"/>
                </a:moveTo>
                <a:lnTo>
                  <a:pt x="10840" y="8930"/>
                </a:lnTo>
              </a:path>
              <a:path w="1514" h="597">
                <a:moveTo>
                  <a:pt x="11187" y="9103"/>
                </a:moveTo>
                <a:cubicBezTo>
                  <a:pt x="11206" y="9177"/>
                  <a:pt x="11214" y="9184"/>
                  <a:pt x="11212" y="9227"/>
                </a:cubicBezTo>
                <a:cubicBezTo>
                  <a:pt x="11191" y="9102"/>
                  <a:pt x="11183" y="9070"/>
                  <a:pt x="11237" y="8954"/>
                </a:cubicBezTo>
                <a:cubicBezTo>
                  <a:pt x="11421" y="8997"/>
                  <a:pt x="11465" y="9087"/>
                  <a:pt x="11485" y="9277"/>
                </a:cubicBezTo>
                <a:cubicBezTo>
                  <a:pt x="11485" y="9294"/>
                  <a:pt x="11485" y="9310"/>
                  <a:pt x="11485" y="9327"/>
                </a:cubicBezTo>
              </a:path>
              <a:path w="1514" h="597">
                <a:moveTo>
                  <a:pt x="11633" y="9079"/>
                </a:moveTo>
                <a:cubicBezTo>
                  <a:pt x="11711" y="9073"/>
                  <a:pt x="11810" y="9093"/>
                  <a:pt x="11832" y="9004"/>
                </a:cubicBezTo>
                <a:cubicBezTo>
                  <a:pt x="11730" y="8983"/>
                  <a:pt x="11599" y="8985"/>
                  <a:pt x="11609" y="9128"/>
                </a:cubicBezTo>
                <a:cubicBezTo>
                  <a:pt x="11621" y="9292"/>
                  <a:pt x="11810" y="9320"/>
                  <a:pt x="11931" y="9252"/>
                </a:cubicBezTo>
                <a:cubicBezTo>
                  <a:pt x="11956" y="9227"/>
                  <a:pt x="11980" y="9203"/>
                  <a:pt x="12005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81360" y="3125880"/>
            <a:ext cx="258840" cy="23184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12799" y="8905"/>
                </a:moveTo>
                <a:cubicBezTo>
                  <a:pt x="12799" y="9019"/>
                  <a:pt x="12710" y="9107"/>
                  <a:pt x="12725" y="9227"/>
                </a:cubicBezTo>
                <a:cubicBezTo>
                  <a:pt x="12741" y="9252"/>
                  <a:pt x="12758" y="9277"/>
                  <a:pt x="12774" y="9302"/>
                </a:cubicBezTo>
                <a:cubicBezTo>
                  <a:pt x="12953" y="9302"/>
                  <a:pt x="12965" y="9182"/>
                  <a:pt x="12923" y="9004"/>
                </a:cubicBezTo>
                <a:cubicBezTo>
                  <a:pt x="12904" y="8924"/>
                  <a:pt x="12837" y="8937"/>
                  <a:pt x="12774" y="8930"/>
                </a:cubicBezTo>
              </a:path>
              <a:path w="720" h="646">
                <a:moveTo>
                  <a:pt x="13246" y="8682"/>
                </a:moveTo>
                <a:cubicBezTo>
                  <a:pt x="13150" y="8758"/>
                  <a:pt x="13154" y="8880"/>
                  <a:pt x="13196" y="9004"/>
                </a:cubicBezTo>
                <a:cubicBezTo>
                  <a:pt x="13223" y="9085"/>
                  <a:pt x="13305" y="9151"/>
                  <a:pt x="13246" y="9227"/>
                </a:cubicBezTo>
              </a:path>
              <a:path w="720" h="646">
                <a:moveTo>
                  <a:pt x="13047" y="9054"/>
                </a:moveTo>
                <a:cubicBezTo>
                  <a:pt x="13181" y="9014"/>
                  <a:pt x="13308" y="8972"/>
                  <a:pt x="13444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33960" y="3187800"/>
            <a:ext cx="1251000" cy="233280"/>
          </a:xfrm>
          <a:custGeom>
            <a:avLst/>
            <a:gdLst/>
            <a:ahLst/>
            <a:rect l="l" t="t" r="r" b="b"/>
            <a:pathLst>
              <a:path w="3473" h="646">
                <a:moveTo>
                  <a:pt x="14263" y="9153"/>
                </a:moveTo>
                <a:cubicBezTo>
                  <a:pt x="14279" y="9266"/>
                  <a:pt x="14318" y="9370"/>
                  <a:pt x="14362" y="9475"/>
                </a:cubicBezTo>
                <a:cubicBezTo>
                  <a:pt x="14326" y="9368"/>
                  <a:pt x="14233" y="9266"/>
                  <a:pt x="14337" y="9153"/>
                </a:cubicBezTo>
                <a:cubicBezTo>
                  <a:pt x="14406" y="9078"/>
                  <a:pt x="14542" y="9079"/>
                  <a:pt x="14635" y="9079"/>
                </a:cubicBezTo>
              </a:path>
              <a:path w="3473" h="646">
                <a:moveTo>
                  <a:pt x="14635" y="9277"/>
                </a:moveTo>
                <a:cubicBezTo>
                  <a:pt x="14734" y="9263"/>
                  <a:pt x="14802" y="9236"/>
                  <a:pt x="14883" y="9178"/>
                </a:cubicBezTo>
                <a:cubicBezTo>
                  <a:pt x="14808" y="9159"/>
                  <a:pt x="14778" y="9126"/>
                  <a:pt x="14709" y="9203"/>
                </a:cubicBezTo>
                <a:cubicBezTo>
                  <a:pt x="14633" y="9287"/>
                  <a:pt x="14637" y="9481"/>
                  <a:pt x="14784" y="9500"/>
                </a:cubicBezTo>
                <a:cubicBezTo>
                  <a:pt x="14884" y="9475"/>
                  <a:pt x="14917" y="9466"/>
                  <a:pt x="14957" y="9401"/>
                </a:cubicBezTo>
              </a:path>
              <a:path w="3473" h="646">
                <a:moveTo>
                  <a:pt x="15304" y="8979"/>
                </a:moveTo>
                <a:cubicBezTo>
                  <a:pt x="15281" y="8907"/>
                  <a:pt x="15274" y="8884"/>
                  <a:pt x="15230" y="8855"/>
                </a:cubicBezTo>
                <a:cubicBezTo>
                  <a:pt x="15115" y="8884"/>
                  <a:pt x="15203" y="9089"/>
                  <a:pt x="15230" y="9153"/>
                </a:cubicBezTo>
                <a:cubicBezTo>
                  <a:pt x="15272" y="9253"/>
                  <a:pt x="15332" y="9301"/>
                  <a:pt x="15354" y="9401"/>
                </a:cubicBezTo>
              </a:path>
              <a:path w="3473" h="646">
                <a:moveTo>
                  <a:pt x="15056" y="9302"/>
                </a:moveTo>
                <a:cubicBezTo>
                  <a:pt x="15223" y="9293"/>
                  <a:pt x="15392" y="9284"/>
                  <a:pt x="15553" y="9252"/>
                </a:cubicBezTo>
              </a:path>
              <a:path w="3473" h="646">
                <a:moveTo>
                  <a:pt x="15429" y="8979"/>
                </a:moveTo>
                <a:cubicBezTo>
                  <a:pt x="15471" y="9107"/>
                  <a:pt x="15546" y="9247"/>
                  <a:pt x="15602" y="9376"/>
                </a:cubicBezTo>
                <a:cubicBezTo>
                  <a:pt x="15624" y="9420"/>
                  <a:pt x="15627" y="9432"/>
                  <a:pt x="15652" y="9451"/>
                </a:cubicBezTo>
              </a:path>
              <a:path w="3473" h="646">
                <a:moveTo>
                  <a:pt x="15701" y="9252"/>
                </a:moveTo>
                <a:cubicBezTo>
                  <a:pt x="15793" y="9226"/>
                  <a:pt x="15925" y="9219"/>
                  <a:pt x="15974" y="9153"/>
                </a:cubicBezTo>
                <a:cubicBezTo>
                  <a:pt x="15877" y="9120"/>
                  <a:pt x="15744" y="9102"/>
                  <a:pt x="15726" y="9252"/>
                </a:cubicBezTo>
                <a:cubicBezTo>
                  <a:pt x="15700" y="9467"/>
                  <a:pt x="16024" y="9510"/>
                  <a:pt x="16148" y="9401"/>
                </a:cubicBezTo>
                <a:cubicBezTo>
                  <a:pt x="16181" y="9351"/>
                  <a:pt x="16214" y="9302"/>
                  <a:pt x="16247" y="9252"/>
                </a:cubicBezTo>
              </a:path>
              <a:path w="3473" h="646">
                <a:moveTo>
                  <a:pt x="16321" y="9079"/>
                </a:moveTo>
                <a:cubicBezTo>
                  <a:pt x="16170" y="9057"/>
                  <a:pt x="16097" y="9083"/>
                  <a:pt x="16173" y="9277"/>
                </a:cubicBezTo>
                <a:cubicBezTo>
                  <a:pt x="16256" y="9490"/>
                  <a:pt x="16389" y="9348"/>
                  <a:pt x="16495" y="9277"/>
                </a:cubicBezTo>
              </a:path>
              <a:path w="3473" h="646">
                <a:moveTo>
                  <a:pt x="16446" y="8855"/>
                </a:moveTo>
                <a:cubicBezTo>
                  <a:pt x="16525" y="9015"/>
                  <a:pt x="16613" y="9169"/>
                  <a:pt x="16694" y="9327"/>
                </a:cubicBezTo>
                <a:cubicBezTo>
                  <a:pt x="16702" y="9343"/>
                  <a:pt x="16710" y="9360"/>
                  <a:pt x="16718" y="9376"/>
                </a:cubicBezTo>
              </a:path>
              <a:path w="3473" h="646">
                <a:moveTo>
                  <a:pt x="16396" y="9203"/>
                </a:moveTo>
                <a:cubicBezTo>
                  <a:pt x="16555" y="9157"/>
                  <a:pt x="16635" y="9170"/>
                  <a:pt x="16793" y="9203"/>
                </a:cubicBezTo>
                <a:cubicBezTo>
                  <a:pt x="16860" y="9217"/>
                  <a:pt x="16870" y="9253"/>
                  <a:pt x="16892" y="9327"/>
                </a:cubicBezTo>
                <a:cubicBezTo>
                  <a:pt x="16892" y="9351"/>
                  <a:pt x="16892" y="9359"/>
                  <a:pt x="16892" y="9327"/>
                </a:cubicBezTo>
              </a:path>
              <a:path w="3473" h="646">
                <a:moveTo>
                  <a:pt x="16793" y="9054"/>
                </a:moveTo>
                <a:cubicBezTo>
                  <a:pt x="16801" y="9054"/>
                  <a:pt x="16810" y="9054"/>
                  <a:pt x="16818" y="9054"/>
                </a:cubicBezTo>
              </a:path>
              <a:path w="3473" h="646">
                <a:moveTo>
                  <a:pt x="16818" y="9054"/>
                </a:moveTo>
                <a:lnTo>
                  <a:pt x="16818" y="9054"/>
                </a:lnTo>
              </a:path>
              <a:path w="3473" h="646">
                <a:moveTo>
                  <a:pt x="17066" y="9079"/>
                </a:moveTo>
                <a:cubicBezTo>
                  <a:pt x="17012" y="9149"/>
                  <a:pt x="16954" y="9257"/>
                  <a:pt x="17016" y="9351"/>
                </a:cubicBezTo>
                <a:cubicBezTo>
                  <a:pt x="17098" y="9474"/>
                  <a:pt x="17248" y="9287"/>
                  <a:pt x="17239" y="9203"/>
                </a:cubicBezTo>
                <a:cubicBezTo>
                  <a:pt x="17237" y="9187"/>
                  <a:pt x="17177" y="9140"/>
                  <a:pt x="17165" y="9128"/>
                </a:cubicBezTo>
              </a:path>
              <a:path w="3473" h="646">
                <a:moveTo>
                  <a:pt x="17363" y="9277"/>
                </a:moveTo>
                <a:cubicBezTo>
                  <a:pt x="17371" y="9285"/>
                  <a:pt x="17380" y="9294"/>
                  <a:pt x="17388" y="9302"/>
                </a:cubicBezTo>
                <a:cubicBezTo>
                  <a:pt x="17373" y="9211"/>
                  <a:pt x="17338" y="9153"/>
                  <a:pt x="17438" y="9103"/>
                </a:cubicBezTo>
                <a:cubicBezTo>
                  <a:pt x="17571" y="9037"/>
                  <a:pt x="17723" y="9228"/>
                  <a:pt x="17735" y="9351"/>
                </a:cubicBezTo>
                <a:cubicBezTo>
                  <a:pt x="17727" y="9359"/>
                  <a:pt x="17719" y="9368"/>
                  <a:pt x="17711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67360" y="5392800"/>
            <a:ext cx="241560" cy="385560"/>
          </a:xfrm>
          <a:custGeom>
            <a:avLst/>
            <a:gdLst/>
            <a:ahLst/>
            <a:rect l="l" t="t" r="r" b="b"/>
            <a:pathLst>
              <a:path w="671" h="1068">
                <a:moveTo>
                  <a:pt x="19298" y="15354"/>
                </a:moveTo>
                <a:cubicBezTo>
                  <a:pt x="19217" y="15580"/>
                  <a:pt x="19114" y="15813"/>
                  <a:pt x="19075" y="16049"/>
                </a:cubicBezTo>
                <a:cubicBezTo>
                  <a:pt x="19173" y="15718"/>
                  <a:pt x="19266" y="15275"/>
                  <a:pt x="19496" y="15007"/>
                </a:cubicBezTo>
                <a:cubicBezTo>
                  <a:pt x="19529" y="14999"/>
                  <a:pt x="19563" y="14990"/>
                  <a:pt x="19596" y="14982"/>
                </a:cubicBezTo>
                <a:cubicBezTo>
                  <a:pt x="19681" y="15299"/>
                  <a:pt x="19742" y="15617"/>
                  <a:pt x="19670" y="15949"/>
                </a:cubicBezTo>
                <a:cubicBezTo>
                  <a:pt x="19662" y="15957"/>
                  <a:pt x="19653" y="15966"/>
                  <a:pt x="19645" y="15974"/>
                </a:cubicBezTo>
              </a:path>
              <a:path w="671" h="1068">
                <a:moveTo>
                  <a:pt x="19546" y="15627"/>
                </a:moveTo>
                <a:cubicBezTo>
                  <a:pt x="19670" y="15591"/>
                  <a:pt x="19676" y="15575"/>
                  <a:pt x="19745" y="15577"/>
                </a:cubicBezTo>
              </a:path>
              <a:path w="671" h="1068">
                <a:moveTo>
                  <a:pt x="19248" y="15602"/>
                </a:moveTo>
                <a:cubicBezTo>
                  <a:pt x="19315" y="15619"/>
                  <a:pt x="19390" y="15618"/>
                  <a:pt x="19472" y="15602"/>
                </a:cubicBezTo>
                <a:cubicBezTo>
                  <a:pt x="19532" y="15582"/>
                  <a:pt x="19547" y="15563"/>
                  <a:pt x="19571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33680" y="6303960"/>
            <a:ext cx="652320" cy="430200"/>
          </a:xfrm>
          <a:custGeom>
            <a:avLst/>
            <a:gdLst/>
            <a:ahLst/>
            <a:rect l="l" t="t" r="r" b="b"/>
            <a:pathLst>
              <a:path w="1812" h="1192">
                <a:moveTo>
                  <a:pt x="4812" y="17983"/>
                </a:moveTo>
                <a:cubicBezTo>
                  <a:pt x="4762" y="17983"/>
                  <a:pt x="4861" y="17983"/>
                  <a:pt x="4911" y="17983"/>
                </a:cubicBezTo>
                <a:cubicBezTo>
                  <a:pt x="4955" y="17983"/>
                  <a:pt x="4978" y="17991"/>
                  <a:pt x="5011" y="17959"/>
                </a:cubicBezTo>
                <a:cubicBezTo>
                  <a:pt x="5036" y="17934"/>
                  <a:pt x="5060" y="17909"/>
                  <a:pt x="5085" y="17884"/>
                </a:cubicBezTo>
              </a:path>
              <a:path w="1812" h="1192">
                <a:moveTo>
                  <a:pt x="5209" y="17735"/>
                </a:moveTo>
                <a:cubicBezTo>
                  <a:pt x="5156" y="17806"/>
                  <a:pt x="5151" y="17918"/>
                  <a:pt x="5159" y="18008"/>
                </a:cubicBezTo>
                <a:cubicBezTo>
                  <a:pt x="5170" y="18129"/>
                  <a:pt x="5205" y="18208"/>
                  <a:pt x="5333" y="18182"/>
                </a:cubicBezTo>
                <a:cubicBezTo>
                  <a:pt x="5404" y="18168"/>
                  <a:pt x="5502" y="18102"/>
                  <a:pt x="5556" y="18058"/>
                </a:cubicBezTo>
                <a:cubicBezTo>
                  <a:pt x="5601" y="18021"/>
                  <a:pt x="5581" y="17961"/>
                  <a:pt x="5581" y="17909"/>
                </a:cubicBezTo>
                <a:cubicBezTo>
                  <a:pt x="5533" y="17919"/>
                  <a:pt x="5486" y="17938"/>
                  <a:pt x="5457" y="17983"/>
                </a:cubicBezTo>
                <a:cubicBezTo>
                  <a:pt x="5414" y="18050"/>
                  <a:pt x="5407" y="18077"/>
                  <a:pt x="5407" y="18157"/>
                </a:cubicBezTo>
                <a:cubicBezTo>
                  <a:pt x="5407" y="18182"/>
                  <a:pt x="5407" y="18190"/>
                  <a:pt x="5432" y="18182"/>
                </a:cubicBezTo>
              </a:path>
              <a:path w="1812" h="1192">
                <a:moveTo>
                  <a:pt x="5705" y="18033"/>
                </a:moveTo>
                <a:cubicBezTo>
                  <a:pt x="5713" y="18033"/>
                  <a:pt x="5722" y="18033"/>
                  <a:pt x="5730" y="18033"/>
                </a:cubicBezTo>
                <a:cubicBezTo>
                  <a:pt x="5734" y="18056"/>
                  <a:pt x="5741" y="18186"/>
                  <a:pt x="5755" y="18207"/>
                </a:cubicBezTo>
                <a:cubicBezTo>
                  <a:pt x="5763" y="18207"/>
                  <a:pt x="5771" y="18207"/>
                  <a:pt x="5779" y="18207"/>
                </a:cubicBezTo>
              </a:path>
              <a:path w="1812" h="1192">
                <a:moveTo>
                  <a:pt x="5879" y="17735"/>
                </a:moveTo>
                <a:cubicBezTo>
                  <a:pt x="5882" y="17771"/>
                  <a:pt x="5896" y="18028"/>
                  <a:pt x="5928" y="18033"/>
                </a:cubicBezTo>
                <a:cubicBezTo>
                  <a:pt x="5936" y="18025"/>
                  <a:pt x="5945" y="18016"/>
                  <a:pt x="5953" y="18008"/>
                </a:cubicBezTo>
              </a:path>
              <a:path w="1812" h="1192">
                <a:moveTo>
                  <a:pt x="6052" y="17512"/>
                </a:moveTo>
                <a:cubicBezTo>
                  <a:pt x="6224" y="17641"/>
                  <a:pt x="6346" y="17798"/>
                  <a:pt x="6350" y="18033"/>
                </a:cubicBezTo>
                <a:cubicBezTo>
                  <a:pt x="6330" y="18155"/>
                  <a:pt x="6340" y="18186"/>
                  <a:pt x="6276" y="18231"/>
                </a:cubicBezTo>
              </a:path>
              <a:path w="1812" h="1192">
                <a:moveTo>
                  <a:pt x="4713" y="17562"/>
                </a:moveTo>
                <a:cubicBezTo>
                  <a:pt x="4605" y="17519"/>
                  <a:pt x="4536" y="17711"/>
                  <a:pt x="4539" y="17810"/>
                </a:cubicBezTo>
                <a:cubicBezTo>
                  <a:pt x="4548" y="18116"/>
                  <a:pt x="4695" y="18394"/>
                  <a:pt x="4837" y="18653"/>
                </a:cubicBezTo>
                <a:cubicBezTo>
                  <a:pt x="4862" y="18703"/>
                  <a:pt x="4870" y="18720"/>
                  <a:pt x="4911" y="186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7840" y="5375160"/>
            <a:ext cx="465120" cy="546120"/>
          </a:xfrm>
          <a:custGeom>
            <a:avLst/>
            <a:gdLst/>
            <a:ahLst/>
            <a:rect l="l" t="t" r="r" b="b"/>
            <a:pathLst>
              <a:path w="1291" h="1515">
                <a:moveTo>
                  <a:pt x="7640" y="16024"/>
                </a:moveTo>
                <a:cubicBezTo>
                  <a:pt x="7794" y="15943"/>
                  <a:pt x="7954" y="15891"/>
                  <a:pt x="8086" y="15776"/>
                </a:cubicBezTo>
              </a:path>
              <a:path w="1291" h="1515">
                <a:moveTo>
                  <a:pt x="8260" y="15056"/>
                </a:moveTo>
                <a:cubicBezTo>
                  <a:pt x="8264" y="15186"/>
                  <a:pt x="8280" y="15333"/>
                  <a:pt x="8260" y="15453"/>
                </a:cubicBezTo>
              </a:path>
              <a:path w="1291" h="1515">
                <a:moveTo>
                  <a:pt x="7665" y="16098"/>
                </a:moveTo>
                <a:cubicBezTo>
                  <a:pt x="7686" y="16013"/>
                  <a:pt x="7791" y="15965"/>
                  <a:pt x="7863" y="15925"/>
                </a:cubicBezTo>
                <a:cubicBezTo>
                  <a:pt x="7949" y="15877"/>
                  <a:pt x="8018" y="15896"/>
                  <a:pt x="8086" y="15825"/>
                </a:cubicBezTo>
                <a:cubicBezTo>
                  <a:pt x="7933" y="15884"/>
                  <a:pt x="7777" y="15955"/>
                  <a:pt x="7615" y="15974"/>
                </a:cubicBezTo>
                <a:cubicBezTo>
                  <a:pt x="7590" y="15974"/>
                  <a:pt x="7582" y="15974"/>
                  <a:pt x="7615" y="15974"/>
                </a:cubicBezTo>
                <a:cubicBezTo>
                  <a:pt x="7720" y="15957"/>
                  <a:pt x="7913" y="15863"/>
                  <a:pt x="7962" y="15875"/>
                </a:cubicBezTo>
              </a:path>
              <a:path w="1291" h="1515">
                <a:moveTo>
                  <a:pt x="7293" y="15081"/>
                </a:moveTo>
                <a:cubicBezTo>
                  <a:pt x="7233" y="15253"/>
                  <a:pt x="7208" y="15567"/>
                  <a:pt x="7169" y="15776"/>
                </a:cubicBezTo>
                <a:cubicBezTo>
                  <a:pt x="7127" y="15998"/>
                  <a:pt x="7056" y="16205"/>
                  <a:pt x="6995" y="16421"/>
                </a:cubicBezTo>
                <a:cubicBezTo>
                  <a:pt x="7003" y="16272"/>
                  <a:pt x="7019" y="16122"/>
                  <a:pt x="7045" y="15974"/>
                </a:cubicBezTo>
                <a:cubicBezTo>
                  <a:pt x="7102" y="15645"/>
                  <a:pt x="7193" y="15325"/>
                  <a:pt x="7293" y="15007"/>
                </a:cubicBezTo>
                <a:cubicBezTo>
                  <a:pt x="7301" y="14982"/>
                  <a:pt x="7309" y="14957"/>
                  <a:pt x="7317" y="14932"/>
                </a:cubicBezTo>
                <a:cubicBezTo>
                  <a:pt x="7460" y="15169"/>
                  <a:pt x="7488" y="15431"/>
                  <a:pt x="7541" y="15701"/>
                </a:cubicBezTo>
                <a:cubicBezTo>
                  <a:pt x="7585" y="15929"/>
                  <a:pt x="7671" y="16168"/>
                  <a:pt x="7689" y="16396"/>
                </a:cubicBezTo>
                <a:cubicBezTo>
                  <a:pt x="7693" y="16442"/>
                  <a:pt x="7671" y="16431"/>
                  <a:pt x="7665" y="16446"/>
                </a:cubicBezTo>
              </a:path>
              <a:path w="1291" h="1515">
                <a:moveTo>
                  <a:pt x="7293" y="16123"/>
                </a:moveTo>
                <a:cubicBezTo>
                  <a:pt x="7293" y="16041"/>
                  <a:pt x="7391" y="15994"/>
                  <a:pt x="7466" y="15974"/>
                </a:cubicBezTo>
                <a:cubicBezTo>
                  <a:pt x="7474" y="15972"/>
                  <a:pt x="7636" y="15956"/>
                  <a:pt x="7615" y="15999"/>
                </a:cubicBezTo>
                <a:cubicBezTo>
                  <a:pt x="7607" y="16007"/>
                  <a:pt x="7598" y="16016"/>
                  <a:pt x="759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03920" y="2598840"/>
            <a:ext cx="2455920" cy="919080"/>
          </a:xfrm>
          <a:custGeom>
            <a:avLst/>
            <a:gdLst/>
            <a:ahLst/>
            <a:rect l="l" t="t" r="r" b="b"/>
            <a:pathLst>
              <a:path w="6822" h="2556">
                <a:moveTo>
                  <a:pt x="18132" y="7392"/>
                </a:moveTo>
                <a:cubicBezTo>
                  <a:pt x="18018" y="7359"/>
                  <a:pt x="17904" y="7295"/>
                  <a:pt x="17785" y="7268"/>
                </a:cubicBezTo>
                <a:cubicBezTo>
                  <a:pt x="17547" y="7214"/>
                  <a:pt x="17352" y="7232"/>
                  <a:pt x="17115" y="7268"/>
                </a:cubicBezTo>
                <a:cubicBezTo>
                  <a:pt x="16822" y="7312"/>
                  <a:pt x="16584" y="7372"/>
                  <a:pt x="16396" y="7615"/>
                </a:cubicBezTo>
                <a:cubicBezTo>
                  <a:pt x="16255" y="7797"/>
                  <a:pt x="16212" y="7989"/>
                  <a:pt x="16173" y="8210"/>
                </a:cubicBezTo>
                <a:cubicBezTo>
                  <a:pt x="16153" y="8324"/>
                  <a:pt x="16096" y="8450"/>
                  <a:pt x="16148" y="8558"/>
                </a:cubicBezTo>
                <a:cubicBezTo>
                  <a:pt x="16212" y="8692"/>
                  <a:pt x="16370" y="8665"/>
                  <a:pt x="16495" y="8706"/>
                </a:cubicBezTo>
                <a:cubicBezTo>
                  <a:pt x="16771" y="8796"/>
                  <a:pt x="17002" y="8766"/>
                  <a:pt x="17289" y="8731"/>
                </a:cubicBezTo>
                <a:cubicBezTo>
                  <a:pt x="17463" y="8710"/>
                  <a:pt x="17660" y="8649"/>
                  <a:pt x="17835" y="8657"/>
                </a:cubicBezTo>
                <a:cubicBezTo>
                  <a:pt x="18041" y="8666"/>
                  <a:pt x="18246" y="8682"/>
                  <a:pt x="18455" y="8682"/>
                </a:cubicBezTo>
                <a:cubicBezTo>
                  <a:pt x="18857" y="8682"/>
                  <a:pt x="19272" y="8646"/>
                  <a:pt x="19670" y="8657"/>
                </a:cubicBezTo>
                <a:cubicBezTo>
                  <a:pt x="19952" y="8665"/>
                  <a:pt x="20232" y="8715"/>
                  <a:pt x="20513" y="8731"/>
                </a:cubicBezTo>
                <a:cubicBezTo>
                  <a:pt x="20831" y="8749"/>
                  <a:pt x="21137" y="8759"/>
                  <a:pt x="21456" y="8731"/>
                </a:cubicBezTo>
                <a:cubicBezTo>
                  <a:pt x="21679" y="8712"/>
                  <a:pt x="22000" y="8739"/>
                  <a:pt x="22126" y="8508"/>
                </a:cubicBezTo>
                <a:cubicBezTo>
                  <a:pt x="22236" y="8307"/>
                  <a:pt x="22226" y="8160"/>
                  <a:pt x="22051" y="8012"/>
                </a:cubicBezTo>
                <a:cubicBezTo>
                  <a:pt x="21786" y="7787"/>
                  <a:pt x="21408" y="7793"/>
                  <a:pt x="21084" y="7739"/>
                </a:cubicBezTo>
                <a:cubicBezTo>
                  <a:pt x="20418" y="7627"/>
                  <a:pt x="19758" y="7360"/>
                  <a:pt x="19075" y="7441"/>
                </a:cubicBezTo>
                <a:cubicBezTo>
                  <a:pt x="18601" y="7497"/>
                  <a:pt x="18132" y="7639"/>
                  <a:pt x="17661" y="7714"/>
                </a:cubicBezTo>
                <a:cubicBezTo>
                  <a:pt x="17346" y="7764"/>
                  <a:pt x="17181" y="7836"/>
                  <a:pt x="16917" y="8012"/>
                </a:cubicBezTo>
              </a:path>
              <a:path w="6822" h="2556">
                <a:moveTo>
                  <a:pt x="21530" y="9153"/>
                </a:moveTo>
                <a:cubicBezTo>
                  <a:pt x="21530" y="9128"/>
                  <a:pt x="21530" y="9120"/>
                  <a:pt x="21530" y="9103"/>
                </a:cubicBezTo>
                <a:cubicBezTo>
                  <a:pt x="21503" y="9270"/>
                  <a:pt x="21390" y="9369"/>
                  <a:pt x="21382" y="9550"/>
                </a:cubicBezTo>
                <a:cubicBezTo>
                  <a:pt x="21406" y="9649"/>
                  <a:pt x="21414" y="9682"/>
                  <a:pt x="21506" y="9674"/>
                </a:cubicBezTo>
              </a:path>
              <a:path w="6822" h="2556">
                <a:moveTo>
                  <a:pt x="21729" y="9128"/>
                </a:moveTo>
                <a:cubicBezTo>
                  <a:pt x="21681" y="9112"/>
                  <a:pt x="21717" y="9098"/>
                  <a:pt x="21679" y="9178"/>
                </a:cubicBezTo>
                <a:cubicBezTo>
                  <a:pt x="21652" y="9235"/>
                  <a:pt x="21578" y="9434"/>
                  <a:pt x="21630" y="9500"/>
                </a:cubicBezTo>
                <a:cubicBezTo>
                  <a:pt x="21705" y="9595"/>
                  <a:pt x="21819" y="9581"/>
                  <a:pt x="21903" y="9525"/>
                </a:cubicBezTo>
                <a:cubicBezTo>
                  <a:pt x="21974" y="9477"/>
                  <a:pt x="22001" y="9455"/>
                  <a:pt x="22027" y="9376"/>
                </a:cubicBezTo>
                <a:cubicBezTo>
                  <a:pt x="21975" y="9363"/>
                  <a:pt x="21936" y="9297"/>
                  <a:pt x="21878" y="9351"/>
                </a:cubicBezTo>
                <a:cubicBezTo>
                  <a:pt x="21815" y="9410"/>
                  <a:pt x="21801" y="9487"/>
                  <a:pt x="21878" y="9500"/>
                </a:cubicBezTo>
              </a:path>
              <a:path w="6822" h="2556">
                <a:moveTo>
                  <a:pt x="22151" y="9426"/>
                </a:moveTo>
                <a:cubicBezTo>
                  <a:pt x="22161" y="9543"/>
                  <a:pt x="22175" y="9654"/>
                  <a:pt x="22175" y="9773"/>
                </a:cubicBezTo>
              </a:path>
              <a:path w="6822" h="2556">
                <a:moveTo>
                  <a:pt x="22299" y="9203"/>
                </a:moveTo>
                <a:cubicBezTo>
                  <a:pt x="22398" y="9203"/>
                  <a:pt x="22480" y="9206"/>
                  <a:pt x="22572" y="9178"/>
                </a:cubicBezTo>
                <a:cubicBezTo>
                  <a:pt x="22598" y="9294"/>
                  <a:pt x="22564" y="9424"/>
                  <a:pt x="22547" y="9550"/>
                </a:cubicBezTo>
                <a:cubicBezTo>
                  <a:pt x="22547" y="9558"/>
                  <a:pt x="22547" y="9567"/>
                  <a:pt x="22547" y="9575"/>
                </a:cubicBezTo>
              </a:path>
              <a:path w="6822" h="2556">
                <a:moveTo>
                  <a:pt x="22671" y="8979"/>
                </a:moveTo>
                <a:cubicBezTo>
                  <a:pt x="22731" y="8959"/>
                  <a:pt x="22918" y="9152"/>
                  <a:pt x="22944" y="9252"/>
                </a:cubicBezTo>
                <a:cubicBezTo>
                  <a:pt x="22989" y="9426"/>
                  <a:pt x="22911" y="9612"/>
                  <a:pt x="22870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6045120"/>
            <a:ext cx="2357280" cy="554040"/>
          </a:xfrm>
          <a:custGeom>
            <a:avLst/>
            <a:gdLst/>
            <a:ahLst/>
            <a:rect l="l" t="t" r="r" b="b"/>
            <a:pathLst>
              <a:path w="6550" h="1539">
                <a:moveTo>
                  <a:pt x="16446" y="17388"/>
                </a:moveTo>
                <a:cubicBezTo>
                  <a:pt x="16489" y="17388"/>
                  <a:pt x="16485" y="17389"/>
                  <a:pt x="16520" y="17363"/>
                </a:cubicBezTo>
                <a:cubicBezTo>
                  <a:pt x="16508" y="17328"/>
                  <a:pt x="16446" y="17333"/>
                  <a:pt x="16421" y="17363"/>
                </a:cubicBezTo>
                <a:cubicBezTo>
                  <a:pt x="16390" y="17401"/>
                  <a:pt x="16494" y="17426"/>
                  <a:pt x="16520" y="17338"/>
                </a:cubicBezTo>
                <a:cubicBezTo>
                  <a:pt x="16542" y="17262"/>
                  <a:pt x="16471" y="17289"/>
                  <a:pt x="16421" y="17289"/>
                </a:cubicBezTo>
                <a:cubicBezTo>
                  <a:pt x="16393" y="17362"/>
                  <a:pt x="16434" y="17491"/>
                  <a:pt x="16520" y="17388"/>
                </a:cubicBezTo>
                <a:cubicBezTo>
                  <a:pt x="16593" y="17301"/>
                  <a:pt x="16509" y="17157"/>
                  <a:pt x="16396" y="17289"/>
                </a:cubicBezTo>
                <a:cubicBezTo>
                  <a:pt x="16305" y="17395"/>
                  <a:pt x="16431" y="17486"/>
                  <a:pt x="16495" y="17338"/>
                </a:cubicBezTo>
                <a:cubicBezTo>
                  <a:pt x="16508" y="17308"/>
                  <a:pt x="16451" y="17355"/>
                  <a:pt x="16446" y="17388"/>
                </a:cubicBezTo>
              </a:path>
              <a:path w="6550" h="1539">
                <a:moveTo>
                  <a:pt x="13593" y="17388"/>
                </a:moveTo>
                <a:cubicBezTo>
                  <a:pt x="13565" y="17388"/>
                  <a:pt x="13554" y="17386"/>
                  <a:pt x="13543" y="17363"/>
                </a:cubicBezTo>
              </a:path>
              <a:path w="6550" h="1539">
                <a:moveTo>
                  <a:pt x="13543" y="17338"/>
                </a:moveTo>
                <a:cubicBezTo>
                  <a:pt x="13535" y="17330"/>
                  <a:pt x="13527" y="17322"/>
                  <a:pt x="13519" y="17314"/>
                </a:cubicBezTo>
              </a:path>
              <a:path w="6550" h="1539">
                <a:moveTo>
                  <a:pt x="13519" y="17338"/>
                </a:moveTo>
                <a:lnTo>
                  <a:pt x="13519" y="17338"/>
                </a:lnTo>
              </a:path>
              <a:path w="6550" h="1539">
                <a:moveTo>
                  <a:pt x="13494" y="17338"/>
                </a:moveTo>
                <a:cubicBezTo>
                  <a:pt x="13506" y="17323"/>
                  <a:pt x="13551" y="17281"/>
                  <a:pt x="13568" y="17264"/>
                </a:cubicBezTo>
                <a:cubicBezTo>
                  <a:pt x="13615" y="17217"/>
                  <a:pt x="13626" y="17171"/>
                  <a:pt x="13667" y="17140"/>
                </a:cubicBezTo>
                <a:cubicBezTo>
                  <a:pt x="13717" y="17102"/>
                  <a:pt x="13796" y="17089"/>
                  <a:pt x="13841" y="17066"/>
                </a:cubicBezTo>
                <a:cubicBezTo>
                  <a:pt x="13885" y="17043"/>
                  <a:pt x="13967" y="16999"/>
                  <a:pt x="14015" y="16991"/>
                </a:cubicBezTo>
                <a:cubicBezTo>
                  <a:pt x="14082" y="16979"/>
                  <a:pt x="14144" y="16969"/>
                  <a:pt x="14213" y="16966"/>
                </a:cubicBezTo>
                <a:cubicBezTo>
                  <a:pt x="14235" y="16965"/>
                  <a:pt x="14328" y="16941"/>
                  <a:pt x="14337" y="16942"/>
                </a:cubicBezTo>
                <a:cubicBezTo>
                  <a:pt x="14396" y="16947"/>
                  <a:pt x="14429" y="16974"/>
                  <a:pt x="14486" y="16991"/>
                </a:cubicBezTo>
                <a:cubicBezTo>
                  <a:pt x="14542" y="17008"/>
                  <a:pt x="14607" y="17025"/>
                  <a:pt x="14660" y="17066"/>
                </a:cubicBezTo>
                <a:cubicBezTo>
                  <a:pt x="14706" y="17102"/>
                  <a:pt x="14732" y="17136"/>
                  <a:pt x="14784" y="17165"/>
                </a:cubicBezTo>
                <a:cubicBezTo>
                  <a:pt x="14830" y="17191"/>
                  <a:pt x="14854" y="17234"/>
                  <a:pt x="14883" y="17264"/>
                </a:cubicBezTo>
                <a:cubicBezTo>
                  <a:pt x="14929" y="17310"/>
                  <a:pt x="14949" y="17322"/>
                  <a:pt x="14982" y="17363"/>
                </a:cubicBezTo>
                <a:cubicBezTo>
                  <a:pt x="15002" y="17404"/>
                  <a:pt x="15011" y="17431"/>
                  <a:pt x="15007" y="17388"/>
                </a:cubicBezTo>
                <a:cubicBezTo>
                  <a:pt x="15005" y="17377"/>
                  <a:pt x="14973" y="17318"/>
                  <a:pt x="14982" y="17264"/>
                </a:cubicBezTo>
                <a:cubicBezTo>
                  <a:pt x="14991" y="17212"/>
                  <a:pt x="15044" y="17172"/>
                  <a:pt x="15081" y="17140"/>
                </a:cubicBezTo>
                <a:cubicBezTo>
                  <a:pt x="15115" y="17110"/>
                  <a:pt x="15158" y="17063"/>
                  <a:pt x="15180" y="17041"/>
                </a:cubicBezTo>
                <a:cubicBezTo>
                  <a:pt x="15215" y="17006"/>
                  <a:pt x="15277" y="16956"/>
                  <a:pt x="15329" y="16942"/>
                </a:cubicBezTo>
                <a:cubicBezTo>
                  <a:pt x="15396" y="16924"/>
                  <a:pt x="15486" y="16902"/>
                  <a:pt x="15553" y="16892"/>
                </a:cubicBezTo>
                <a:cubicBezTo>
                  <a:pt x="15610" y="16883"/>
                  <a:pt x="15697" y="16904"/>
                  <a:pt x="15751" y="16917"/>
                </a:cubicBezTo>
                <a:cubicBezTo>
                  <a:pt x="15809" y="16930"/>
                  <a:pt x="15898" y="16960"/>
                  <a:pt x="15949" y="16966"/>
                </a:cubicBezTo>
                <a:cubicBezTo>
                  <a:pt x="16003" y="16973"/>
                  <a:pt x="16050" y="16973"/>
                  <a:pt x="16098" y="16991"/>
                </a:cubicBezTo>
                <a:cubicBezTo>
                  <a:pt x="16133" y="17004"/>
                  <a:pt x="16129" y="17019"/>
                  <a:pt x="16173" y="17041"/>
                </a:cubicBezTo>
                <a:cubicBezTo>
                  <a:pt x="16215" y="17062"/>
                  <a:pt x="16253" y="17070"/>
                  <a:pt x="16272" y="17090"/>
                </a:cubicBezTo>
                <a:cubicBezTo>
                  <a:pt x="16285" y="17104"/>
                  <a:pt x="16310" y="17168"/>
                  <a:pt x="16321" y="17190"/>
                </a:cubicBezTo>
                <a:cubicBezTo>
                  <a:pt x="16355" y="17259"/>
                  <a:pt x="16381" y="17264"/>
                  <a:pt x="16421" y="17314"/>
                </a:cubicBezTo>
                <a:cubicBezTo>
                  <a:pt x="16446" y="17345"/>
                  <a:pt x="16442" y="17349"/>
                  <a:pt x="16446" y="17388"/>
                </a:cubicBezTo>
                <a:cubicBezTo>
                  <a:pt x="16446" y="17396"/>
                  <a:pt x="16446" y="17405"/>
                  <a:pt x="16446" y="17413"/>
                </a:cubicBezTo>
                <a:cubicBezTo>
                  <a:pt x="16457" y="17377"/>
                  <a:pt x="16457" y="17399"/>
                  <a:pt x="16446" y="17363"/>
                </a:cubicBezTo>
                <a:cubicBezTo>
                  <a:pt x="16446" y="17415"/>
                  <a:pt x="16457" y="17423"/>
                  <a:pt x="16495" y="17388"/>
                </a:cubicBezTo>
                <a:cubicBezTo>
                  <a:pt x="16503" y="17371"/>
                  <a:pt x="16512" y="17355"/>
                  <a:pt x="16520" y="17338"/>
                </a:cubicBezTo>
                <a:cubicBezTo>
                  <a:pt x="16449" y="17378"/>
                  <a:pt x="16491" y="17331"/>
                  <a:pt x="16446" y="17413"/>
                </a:cubicBezTo>
                <a:cubicBezTo>
                  <a:pt x="16491" y="17413"/>
                  <a:pt x="16461" y="17413"/>
                  <a:pt x="16470" y="17413"/>
                </a:cubicBezTo>
              </a:path>
              <a:path w="6550" h="1539">
                <a:moveTo>
                  <a:pt x="10294" y="17661"/>
                </a:moveTo>
                <a:cubicBezTo>
                  <a:pt x="10286" y="17661"/>
                  <a:pt x="10277" y="17661"/>
                  <a:pt x="10269" y="17661"/>
                </a:cubicBezTo>
                <a:cubicBezTo>
                  <a:pt x="10327" y="17661"/>
                  <a:pt x="10385" y="17661"/>
                  <a:pt x="10443" y="17661"/>
                </a:cubicBezTo>
              </a:path>
              <a:path w="6550" h="1539">
                <a:moveTo>
                  <a:pt x="10765" y="17587"/>
                </a:moveTo>
                <a:cubicBezTo>
                  <a:pt x="10723" y="17587"/>
                  <a:pt x="10727" y="17597"/>
                  <a:pt x="10716" y="17562"/>
                </a:cubicBezTo>
                <a:cubicBezTo>
                  <a:pt x="10756" y="17531"/>
                  <a:pt x="10818" y="17516"/>
                  <a:pt x="10864" y="17562"/>
                </a:cubicBezTo>
                <a:cubicBezTo>
                  <a:pt x="10982" y="17680"/>
                  <a:pt x="10876" y="17770"/>
                  <a:pt x="10790" y="17859"/>
                </a:cubicBezTo>
                <a:cubicBezTo>
                  <a:pt x="10759" y="17891"/>
                  <a:pt x="10693" y="17938"/>
                  <a:pt x="10641" y="17909"/>
                </a:cubicBezTo>
                <a:cubicBezTo>
                  <a:pt x="10633" y="17901"/>
                  <a:pt x="10624" y="17892"/>
                  <a:pt x="10616" y="17884"/>
                </a:cubicBezTo>
                <a:cubicBezTo>
                  <a:pt x="10649" y="17873"/>
                  <a:pt x="10660" y="17840"/>
                  <a:pt x="10716" y="17835"/>
                </a:cubicBezTo>
                <a:cubicBezTo>
                  <a:pt x="10765" y="17830"/>
                  <a:pt x="10805" y="17826"/>
                  <a:pt x="10840" y="17859"/>
                </a:cubicBezTo>
                <a:cubicBezTo>
                  <a:pt x="10881" y="17897"/>
                  <a:pt x="10902" y="17913"/>
                  <a:pt x="10914" y="17959"/>
                </a:cubicBezTo>
              </a:path>
              <a:path w="6550" h="1539">
                <a:moveTo>
                  <a:pt x="11311" y="17983"/>
                </a:moveTo>
                <a:cubicBezTo>
                  <a:pt x="11250" y="18003"/>
                  <a:pt x="11301" y="18121"/>
                  <a:pt x="11286" y="18182"/>
                </a:cubicBezTo>
                <a:cubicBezTo>
                  <a:pt x="11278" y="18190"/>
                  <a:pt x="11269" y="18199"/>
                  <a:pt x="11261" y="18207"/>
                </a:cubicBezTo>
              </a:path>
              <a:path w="6550" h="1539">
                <a:moveTo>
                  <a:pt x="11485" y="17611"/>
                </a:moveTo>
                <a:cubicBezTo>
                  <a:pt x="11485" y="17599"/>
                  <a:pt x="11485" y="17495"/>
                  <a:pt x="11485" y="17562"/>
                </a:cubicBezTo>
                <a:cubicBezTo>
                  <a:pt x="11485" y="17677"/>
                  <a:pt x="11484" y="17774"/>
                  <a:pt x="11509" y="17884"/>
                </a:cubicBezTo>
              </a:path>
              <a:path w="6550" h="1539">
                <a:moveTo>
                  <a:pt x="11633" y="17314"/>
                </a:moveTo>
                <a:cubicBezTo>
                  <a:pt x="11778" y="17490"/>
                  <a:pt x="11806" y="17609"/>
                  <a:pt x="11782" y="17835"/>
                </a:cubicBezTo>
                <a:cubicBezTo>
                  <a:pt x="11772" y="17935"/>
                  <a:pt x="11717" y="18165"/>
                  <a:pt x="11633" y="18083"/>
                </a:cubicBezTo>
              </a:path>
              <a:path w="6550" h="1539">
                <a:moveTo>
                  <a:pt x="10244" y="17338"/>
                </a:moveTo>
                <a:cubicBezTo>
                  <a:pt x="10090" y="17377"/>
                  <a:pt x="10079" y="17566"/>
                  <a:pt x="10046" y="17711"/>
                </a:cubicBezTo>
                <a:cubicBezTo>
                  <a:pt x="10005" y="17892"/>
                  <a:pt x="9932" y="18207"/>
                  <a:pt x="10145" y="18331"/>
                </a:cubicBezTo>
                <a:cubicBezTo>
                  <a:pt x="10162" y="18331"/>
                  <a:pt x="10178" y="18331"/>
                  <a:pt x="10195" y="18331"/>
                </a:cubicBezTo>
              </a:path>
              <a:path w="6550" h="1539">
                <a:moveTo>
                  <a:pt x="13494" y="17338"/>
                </a:moveTo>
                <a:cubicBezTo>
                  <a:pt x="13466" y="17319"/>
                  <a:pt x="13440" y="17337"/>
                  <a:pt x="13419" y="17314"/>
                </a:cubicBezTo>
                <a:cubicBezTo>
                  <a:pt x="13410" y="17305"/>
                  <a:pt x="13382" y="17238"/>
                  <a:pt x="13370" y="17214"/>
                </a:cubicBezTo>
                <a:cubicBezTo>
                  <a:pt x="13346" y="17166"/>
                  <a:pt x="13295" y="17148"/>
                  <a:pt x="13271" y="17115"/>
                </a:cubicBezTo>
                <a:cubicBezTo>
                  <a:pt x="13238" y="17070"/>
                  <a:pt x="13200" y="17021"/>
                  <a:pt x="13171" y="16991"/>
                </a:cubicBezTo>
                <a:cubicBezTo>
                  <a:pt x="13123" y="16941"/>
                  <a:pt x="13061" y="16902"/>
                  <a:pt x="12998" y="16867"/>
                </a:cubicBezTo>
                <a:cubicBezTo>
                  <a:pt x="12928" y="16828"/>
                  <a:pt x="12920" y="16836"/>
                  <a:pt x="12849" y="16818"/>
                </a:cubicBezTo>
                <a:cubicBezTo>
                  <a:pt x="12787" y="16802"/>
                  <a:pt x="12692" y="16769"/>
                  <a:pt x="12626" y="16793"/>
                </a:cubicBezTo>
                <a:cubicBezTo>
                  <a:pt x="12622" y="16795"/>
                  <a:pt x="12545" y="16846"/>
                  <a:pt x="12526" y="16867"/>
                </a:cubicBezTo>
                <a:cubicBezTo>
                  <a:pt x="12500" y="16894"/>
                  <a:pt x="12474" y="16933"/>
                  <a:pt x="12452" y="16966"/>
                </a:cubicBezTo>
                <a:cubicBezTo>
                  <a:pt x="12416" y="17020"/>
                  <a:pt x="12383" y="17083"/>
                  <a:pt x="12353" y="17140"/>
                </a:cubicBezTo>
                <a:cubicBezTo>
                  <a:pt x="12344" y="17156"/>
                  <a:pt x="12315" y="17190"/>
                  <a:pt x="12303" y="17214"/>
                </a:cubicBezTo>
                <a:cubicBezTo>
                  <a:pt x="12302" y="17217"/>
                  <a:pt x="12287" y="17244"/>
                  <a:pt x="12278" y="17264"/>
                </a:cubicBezTo>
                <a:cubicBezTo>
                  <a:pt x="12276" y="17257"/>
                  <a:pt x="12266" y="17147"/>
                  <a:pt x="12254" y="17115"/>
                </a:cubicBezTo>
                <a:cubicBezTo>
                  <a:pt x="12231" y="17055"/>
                  <a:pt x="12178" y="17025"/>
                  <a:pt x="12129" y="16991"/>
                </a:cubicBezTo>
                <a:cubicBezTo>
                  <a:pt x="12044" y="16932"/>
                  <a:pt x="11960" y="16867"/>
                  <a:pt x="11857" y="16842"/>
                </a:cubicBezTo>
                <a:cubicBezTo>
                  <a:pt x="11793" y="16826"/>
                  <a:pt x="11722" y="16830"/>
                  <a:pt x="11658" y="16818"/>
                </a:cubicBezTo>
                <a:cubicBezTo>
                  <a:pt x="11592" y="16806"/>
                  <a:pt x="11530" y="16785"/>
                  <a:pt x="11460" y="16793"/>
                </a:cubicBezTo>
                <a:cubicBezTo>
                  <a:pt x="11415" y="16798"/>
                  <a:pt x="11379" y="16806"/>
                  <a:pt x="11336" y="16818"/>
                </a:cubicBezTo>
                <a:cubicBezTo>
                  <a:pt x="11283" y="16833"/>
                  <a:pt x="11215" y="16823"/>
                  <a:pt x="11162" y="16842"/>
                </a:cubicBezTo>
                <a:cubicBezTo>
                  <a:pt x="11077" y="16873"/>
                  <a:pt x="11026" y="16938"/>
                  <a:pt x="10988" y="17016"/>
                </a:cubicBezTo>
                <a:cubicBezTo>
                  <a:pt x="10962" y="17070"/>
                  <a:pt x="10927" y="17119"/>
                  <a:pt x="10889" y="17165"/>
                </a:cubicBezTo>
                <a:cubicBezTo>
                  <a:pt x="10840" y="17224"/>
                  <a:pt x="10822" y="17270"/>
                  <a:pt x="10790" y="17338"/>
                </a:cubicBezTo>
                <a:cubicBezTo>
                  <a:pt x="10734" y="17455"/>
                  <a:pt x="10794" y="17390"/>
                  <a:pt x="10765" y="17338"/>
                </a:cubicBezTo>
                <a:cubicBezTo>
                  <a:pt x="10757" y="17330"/>
                  <a:pt x="10748" y="17322"/>
                  <a:pt x="10740" y="17314"/>
                </a:cubicBezTo>
                <a:cubicBezTo>
                  <a:pt x="10763" y="17354"/>
                  <a:pt x="10823" y="17305"/>
                  <a:pt x="10790" y="17338"/>
                </a:cubicBezTo>
                <a:cubicBezTo>
                  <a:pt x="10765" y="17338"/>
                  <a:pt x="10757" y="17338"/>
                  <a:pt x="10765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8920" y="6411960"/>
            <a:ext cx="125280" cy="411120"/>
          </a:xfrm>
          <a:custGeom>
            <a:avLst/>
            <a:gdLst/>
            <a:ahLst/>
            <a:rect l="l" t="t" r="r" b="b"/>
            <a:pathLst>
              <a:path w="348" h="1142">
                <a:moveTo>
                  <a:pt x="13271" y="17810"/>
                </a:moveTo>
                <a:cubicBezTo>
                  <a:pt x="13271" y="17918"/>
                  <a:pt x="13248" y="18023"/>
                  <a:pt x="13246" y="18132"/>
                </a:cubicBezTo>
                <a:cubicBezTo>
                  <a:pt x="13243" y="18274"/>
                  <a:pt x="13237" y="18247"/>
                  <a:pt x="13320" y="18331"/>
                </a:cubicBezTo>
                <a:cubicBezTo>
                  <a:pt x="13415" y="18307"/>
                  <a:pt x="13494" y="18215"/>
                  <a:pt x="13519" y="18107"/>
                </a:cubicBezTo>
                <a:cubicBezTo>
                  <a:pt x="13534" y="18043"/>
                  <a:pt x="13519" y="17951"/>
                  <a:pt x="13519" y="17884"/>
                </a:cubicBezTo>
                <a:cubicBezTo>
                  <a:pt x="13538" y="18041"/>
                  <a:pt x="13582" y="18197"/>
                  <a:pt x="13593" y="18355"/>
                </a:cubicBezTo>
                <a:cubicBezTo>
                  <a:pt x="13606" y="18542"/>
                  <a:pt x="13609" y="18730"/>
                  <a:pt x="13543" y="18901"/>
                </a:cubicBezTo>
                <a:cubicBezTo>
                  <a:pt x="13514" y="18976"/>
                  <a:pt x="13467" y="18951"/>
                  <a:pt x="13395" y="18951"/>
                </a:cubicBezTo>
                <a:cubicBezTo>
                  <a:pt x="13331" y="18930"/>
                  <a:pt x="13389" y="18741"/>
                  <a:pt x="13395" y="18703"/>
                </a:cubicBezTo>
                <a:cubicBezTo>
                  <a:pt x="13416" y="18574"/>
                  <a:pt x="13447" y="18504"/>
                  <a:pt x="13494" y="18405"/>
                </a:cubicBezTo>
                <a:cubicBezTo>
                  <a:pt x="13537" y="18314"/>
                  <a:pt x="13568" y="18257"/>
                  <a:pt x="13568" y="18157"/>
                </a:cubicBezTo>
                <a:cubicBezTo>
                  <a:pt x="13568" y="18132"/>
                  <a:pt x="13568" y="18124"/>
                  <a:pt x="13568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4800" y="6375240"/>
            <a:ext cx="231480" cy="2336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15577" y="17735"/>
                </a:moveTo>
                <a:cubicBezTo>
                  <a:pt x="15535" y="17651"/>
                  <a:pt x="15477" y="17843"/>
                  <a:pt x="15453" y="17934"/>
                </a:cubicBezTo>
                <a:cubicBezTo>
                  <a:pt x="15433" y="18009"/>
                  <a:pt x="15427" y="18315"/>
                  <a:pt x="15553" y="18331"/>
                </a:cubicBezTo>
                <a:cubicBezTo>
                  <a:pt x="15609" y="18272"/>
                  <a:pt x="15651" y="18231"/>
                  <a:pt x="15701" y="18182"/>
                </a:cubicBezTo>
              </a:path>
              <a:path w="645" h="645">
                <a:moveTo>
                  <a:pt x="15801" y="17835"/>
                </a:moveTo>
                <a:cubicBezTo>
                  <a:pt x="15943" y="17852"/>
                  <a:pt x="16105" y="17860"/>
                  <a:pt x="16073" y="18058"/>
                </a:cubicBezTo>
                <a:cubicBezTo>
                  <a:pt x="16038" y="18278"/>
                  <a:pt x="15827" y="18342"/>
                  <a:pt x="15652" y="18331"/>
                </a:cubicBezTo>
                <a:cubicBezTo>
                  <a:pt x="15721" y="18216"/>
                  <a:pt x="15773" y="18109"/>
                  <a:pt x="15925" y="18182"/>
                </a:cubicBezTo>
                <a:cubicBezTo>
                  <a:pt x="15968" y="18203"/>
                  <a:pt x="16014" y="18271"/>
                  <a:pt x="16049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84920" y="6465960"/>
            <a:ext cx="81000" cy="177840"/>
          </a:xfrm>
          <a:custGeom>
            <a:avLst/>
            <a:gdLst/>
            <a:ahLst/>
            <a:rect l="l" t="t" r="r" b="b"/>
            <a:pathLst>
              <a:path w="225" h="497">
                <a:moveTo>
                  <a:pt x="16346" y="18207"/>
                </a:moveTo>
                <a:cubicBezTo>
                  <a:pt x="16365" y="18291"/>
                  <a:pt x="16387" y="18371"/>
                  <a:pt x="16396" y="18455"/>
                </a:cubicBezTo>
              </a:path>
              <a:path w="225" h="497">
                <a:moveTo>
                  <a:pt x="16520" y="17959"/>
                </a:moveTo>
                <a:cubicBezTo>
                  <a:pt x="16525" y="18051"/>
                  <a:pt x="16522" y="18208"/>
                  <a:pt x="16570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5120" y="6411960"/>
            <a:ext cx="71640" cy="204840"/>
          </a:xfrm>
          <a:custGeom>
            <a:avLst/>
            <a:gdLst/>
            <a:ahLst/>
            <a:rect l="l" t="t" r="r" b="b"/>
            <a:pathLst>
              <a:path w="199" h="571">
                <a:moveTo>
                  <a:pt x="16793" y="17810"/>
                </a:moveTo>
                <a:cubicBezTo>
                  <a:pt x="16944" y="18062"/>
                  <a:pt x="17047" y="18136"/>
                  <a:pt x="16867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43880" y="6197760"/>
            <a:ext cx="581040" cy="393480"/>
          </a:xfrm>
          <a:custGeom>
            <a:avLst/>
            <a:gdLst/>
            <a:ahLst/>
            <a:rect l="l" t="t" r="r" b="b"/>
            <a:pathLst>
              <a:path w="1613" h="1093">
                <a:moveTo>
                  <a:pt x="21456" y="17611"/>
                </a:moveTo>
                <a:cubicBezTo>
                  <a:pt x="21337" y="17755"/>
                  <a:pt x="21181" y="17927"/>
                  <a:pt x="21258" y="18132"/>
                </a:cubicBezTo>
                <a:cubicBezTo>
                  <a:pt x="21303" y="18252"/>
                  <a:pt x="21442" y="18156"/>
                  <a:pt x="21506" y="18132"/>
                </a:cubicBezTo>
              </a:path>
              <a:path w="1613" h="1093">
                <a:moveTo>
                  <a:pt x="21704" y="17711"/>
                </a:moveTo>
                <a:cubicBezTo>
                  <a:pt x="21630" y="17847"/>
                  <a:pt x="21597" y="17977"/>
                  <a:pt x="21580" y="18132"/>
                </a:cubicBezTo>
                <a:cubicBezTo>
                  <a:pt x="21711" y="18189"/>
                  <a:pt x="21860" y="18217"/>
                  <a:pt x="21952" y="18058"/>
                </a:cubicBezTo>
                <a:cubicBezTo>
                  <a:pt x="21960" y="18025"/>
                  <a:pt x="21969" y="17992"/>
                  <a:pt x="21977" y="17959"/>
                </a:cubicBezTo>
                <a:cubicBezTo>
                  <a:pt x="21842" y="17959"/>
                  <a:pt x="21805" y="17989"/>
                  <a:pt x="21729" y="18107"/>
                </a:cubicBezTo>
                <a:cubicBezTo>
                  <a:pt x="21704" y="18157"/>
                  <a:pt x="21696" y="18174"/>
                  <a:pt x="21754" y="18182"/>
                </a:cubicBezTo>
              </a:path>
              <a:path w="1613" h="1093">
                <a:moveTo>
                  <a:pt x="22126" y="18058"/>
                </a:moveTo>
                <a:cubicBezTo>
                  <a:pt x="22126" y="18133"/>
                  <a:pt x="22101" y="18273"/>
                  <a:pt x="22151" y="18306"/>
                </a:cubicBezTo>
              </a:path>
              <a:path w="1613" h="1093">
                <a:moveTo>
                  <a:pt x="22423" y="17711"/>
                </a:moveTo>
                <a:cubicBezTo>
                  <a:pt x="22423" y="17831"/>
                  <a:pt x="22437" y="17940"/>
                  <a:pt x="22448" y="18058"/>
                </a:cubicBezTo>
                <a:cubicBezTo>
                  <a:pt x="22448" y="18099"/>
                  <a:pt x="22448" y="18107"/>
                  <a:pt x="22448" y="18132"/>
                </a:cubicBezTo>
              </a:path>
              <a:path w="1613" h="1093">
                <a:moveTo>
                  <a:pt x="22771" y="17636"/>
                </a:moveTo>
                <a:cubicBezTo>
                  <a:pt x="22854" y="17922"/>
                  <a:pt x="22887" y="18017"/>
                  <a:pt x="22671" y="18231"/>
                </a:cubicBezTo>
              </a:path>
              <a:path w="1613" h="1093">
                <a:moveTo>
                  <a:pt x="21704" y="17388"/>
                </a:moveTo>
                <a:cubicBezTo>
                  <a:pt x="21764" y="17368"/>
                  <a:pt x="21702" y="17352"/>
                  <a:pt x="21729" y="17363"/>
                </a:cubicBezTo>
                <a:cubicBezTo>
                  <a:pt x="21806" y="17394"/>
                  <a:pt x="21799" y="17340"/>
                  <a:pt x="21828" y="17289"/>
                </a:cubicBezTo>
                <a:cubicBezTo>
                  <a:pt x="21889" y="17269"/>
                  <a:pt x="21823" y="17256"/>
                  <a:pt x="21779" y="17289"/>
                </a:cubicBezTo>
                <a:cubicBezTo>
                  <a:pt x="21703" y="17347"/>
                  <a:pt x="21691" y="17416"/>
                  <a:pt x="21803" y="17388"/>
                </a:cubicBezTo>
                <a:cubicBezTo>
                  <a:pt x="21906" y="17362"/>
                  <a:pt x="21998" y="17253"/>
                  <a:pt x="21853" y="17214"/>
                </a:cubicBezTo>
                <a:cubicBezTo>
                  <a:pt x="21778" y="17194"/>
                  <a:pt x="21759" y="17265"/>
                  <a:pt x="21729" y="17314"/>
                </a:cubicBezTo>
                <a:cubicBezTo>
                  <a:pt x="21803" y="17357"/>
                  <a:pt x="21827" y="17355"/>
                  <a:pt x="21853" y="17264"/>
                </a:cubicBezTo>
                <a:cubicBezTo>
                  <a:pt x="21853" y="17256"/>
                  <a:pt x="21853" y="17247"/>
                  <a:pt x="21853" y="17239"/>
                </a:cubicBezTo>
                <a:cubicBezTo>
                  <a:pt x="21815" y="17253"/>
                  <a:pt x="21676" y="17333"/>
                  <a:pt x="21754" y="17388"/>
                </a:cubicBezTo>
                <a:cubicBezTo>
                  <a:pt x="21790" y="17414"/>
                  <a:pt x="21799" y="17354"/>
                  <a:pt x="21803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98760" y="5776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40" y="16049"/>
                </a:moveTo>
                <a:lnTo>
                  <a:pt x="4440" y="1604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081240"/>
            <a:ext cx="2089440" cy="1446480"/>
          </a:xfrm>
          <a:custGeom>
            <a:avLst/>
            <a:gdLst/>
            <a:ahLst/>
            <a:rect l="l" t="t" r="r" b="b"/>
            <a:pathLst>
              <a:path w="5805" h="4019">
                <a:moveTo>
                  <a:pt x="5432" y="9599"/>
                </a:moveTo>
                <a:cubicBezTo>
                  <a:pt x="5432" y="9635"/>
                  <a:pt x="5420" y="9732"/>
                  <a:pt x="5482" y="9723"/>
                </a:cubicBezTo>
                <a:cubicBezTo>
                  <a:pt x="5543" y="9714"/>
                  <a:pt x="5557" y="9630"/>
                  <a:pt x="5507" y="9624"/>
                </a:cubicBezTo>
                <a:cubicBezTo>
                  <a:pt x="5499" y="9624"/>
                  <a:pt x="5490" y="9624"/>
                  <a:pt x="5482" y="9624"/>
                </a:cubicBezTo>
                <a:cubicBezTo>
                  <a:pt x="5479" y="9636"/>
                  <a:pt x="5439" y="9891"/>
                  <a:pt x="5507" y="9823"/>
                </a:cubicBezTo>
                <a:cubicBezTo>
                  <a:pt x="5565" y="9765"/>
                  <a:pt x="5476" y="9662"/>
                  <a:pt x="5407" y="9674"/>
                </a:cubicBezTo>
                <a:cubicBezTo>
                  <a:pt x="5344" y="9706"/>
                  <a:pt x="5324" y="9730"/>
                  <a:pt x="5333" y="9798"/>
                </a:cubicBezTo>
                <a:cubicBezTo>
                  <a:pt x="5360" y="9838"/>
                  <a:pt x="5362" y="9826"/>
                  <a:pt x="5407" y="9798"/>
                </a:cubicBezTo>
                <a:cubicBezTo>
                  <a:pt x="5414" y="9752"/>
                  <a:pt x="5407" y="9534"/>
                  <a:pt x="5358" y="9674"/>
                </a:cubicBezTo>
                <a:cubicBezTo>
                  <a:pt x="5319" y="9784"/>
                  <a:pt x="5371" y="9906"/>
                  <a:pt x="5457" y="9748"/>
                </a:cubicBezTo>
                <a:cubicBezTo>
                  <a:pt x="5476" y="9691"/>
                  <a:pt x="5502" y="9666"/>
                  <a:pt x="5457" y="9674"/>
                </a:cubicBezTo>
              </a:path>
              <a:path w="5805" h="4019">
                <a:moveTo>
                  <a:pt x="4762" y="9153"/>
                </a:moveTo>
                <a:cubicBezTo>
                  <a:pt x="4810" y="9153"/>
                  <a:pt x="4841" y="9173"/>
                  <a:pt x="4887" y="9178"/>
                </a:cubicBezTo>
                <a:cubicBezTo>
                  <a:pt x="4911" y="9178"/>
                  <a:pt x="4920" y="9178"/>
                  <a:pt x="4936" y="9178"/>
                </a:cubicBezTo>
              </a:path>
              <a:path w="5805" h="4019">
                <a:moveTo>
                  <a:pt x="5060" y="8930"/>
                </a:moveTo>
                <a:cubicBezTo>
                  <a:pt x="5060" y="9037"/>
                  <a:pt x="5005" y="9105"/>
                  <a:pt x="4986" y="9203"/>
                </a:cubicBezTo>
                <a:cubicBezTo>
                  <a:pt x="4975" y="9259"/>
                  <a:pt x="4986" y="9341"/>
                  <a:pt x="4986" y="9401"/>
                </a:cubicBezTo>
                <a:cubicBezTo>
                  <a:pt x="5090" y="9433"/>
                  <a:pt x="5181" y="9446"/>
                  <a:pt x="5259" y="9351"/>
                </a:cubicBezTo>
                <a:cubicBezTo>
                  <a:pt x="5295" y="9307"/>
                  <a:pt x="5301" y="9278"/>
                  <a:pt x="5308" y="9227"/>
                </a:cubicBezTo>
                <a:cubicBezTo>
                  <a:pt x="5236" y="9185"/>
                  <a:pt x="5222" y="9205"/>
                  <a:pt x="5184" y="9277"/>
                </a:cubicBezTo>
                <a:cubicBezTo>
                  <a:pt x="5159" y="9324"/>
                  <a:pt x="5159" y="9330"/>
                  <a:pt x="5159" y="9376"/>
                </a:cubicBezTo>
              </a:path>
              <a:path w="5805" h="4019">
                <a:moveTo>
                  <a:pt x="5556" y="9327"/>
                </a:moveTo>
                <a:cubicBezTo>
                  <a:pt x="5548" y="9327"/>
                  <a:pt x="5539" y="9327"/>
                  <a:pt x="5531" y="9327"/>
                </a:cubicBezTo>
                <a:cubicBezTo>
                  <a:pt x="5521" y="9388"/>
                  <a:pt x="5494" y="9442"/>
                  <a:pt x="5482" y="9500"/>
                </a:cubicBezTo>
              </a:path>
              <a:path w="5805" h="4019">
                <a:moveTo>
                  <a:pt x="5631" y="8954"/>
                </a:moveTo>
                <a:cubicBezTo>
                  <a:pt x="5723" y="8928"/>
                  <a:pt x="5785" y="8905"/>
                  <a:pt x="5879" y="8905"/>
                </a:cubicBezTo>
                <a:cubicBezTo>
                  <a:pt x="5887" y="8905"/>
                  <a:pt x="5896" y="8905"/>
                  <a:pt x="5904" y="8905"/>
                </a:cubicBezTo>
                <a:cubicBezTo>
                  <a:pt x="5885" y="9001"/>
                  <a:pt x="5842" y="9102"/>
                  <a:pt x="5829" y="9203"/>
                </a:cubicBezTo>
                <a:cubicBezTo>
                  <a:pt x="5822" y="9261"/>
                  <a:pt x="5851" y="9311"/>
                  <a:pt x="5804" y="9327"/>
                </a:cubicBezTo>
              </a:path>
              <a:path w="5805" h="4019">
                <a:moveTo>
                  <a:pt x="6077" y="8731"/>
                </a:moveTo>
                <a:cubicBezTo>
                  <a:pt x="6208" y="8835"/>
                  <a:pt x="6244" y="9079"/>
                  <a:pt x="6226" y="9252"/>
                </a:cubicBezTo>
                <a:cubicBezTo>
                  <a:pt x="6178" y="9419"/>
                  <a:pt x="6166" y="9471"/>
                  <a:pt x="6077" y="9550"/>
                </a:cubicBezTo>
              </a:path>
              <a:path w="5805" h="4019">
                <a:moveTo>
                  <a:pt x="4663" y="8731"/>
                </a:moveTo>
                <a:cubicBezTo>
                  <a:pt x="4469" y="8775"/>
                  <a:pt x="4483" y="8948"/>
                  <a:pt x="4490" y="9128"/>
                </a:cubicBezTo>
                <a:cubicBezTo>
                  <a:pt x="4499" y="9344"/>
                  <a:pt x="4559" y="9534"/>
                  <a:pt x="4713" y="9674"/>
                </a:cubicBezTo>
              </a:path>
              <a:path w="5805" h="4019">
                <a:moveTo>
                  <a:pt x="819" y="9426"/>
                </a:moveTo>
                <a:cubicBezTo>
                  <a:pt x="702" y="9455"/>
                  <a:pt x="561" y="9623"/>
                  <a:pt x="496" y="9723"/>
                </a:cubicBezTo>
                <a:cubicBezTo>
                  <a:pt x="412" y="9852"/>
                  <a:pt x="471" y="9944"/>
                  <a:pt x="496" y="10071"/>
                </a:cubicBezTo>
              </a:path>
              <a:path w="5805" h="4019">
                <a:moveTo>
                  <a:pt x="843" y="9575"/>
                </a:moveTo>
                <a:cubicBezTo>
                  <a:pt x="822" y="9680"/>
                  <a:pt x="782" y="9787"/>
                  <a:pt x="769" y="9897"/>
                </a:cubicBezTo>
                <a:cubicBezTo>
                  <a:pt x="753" y="10032"/>
                  <a:pt x="853" y="10126"/>
                  <a:pt x="992" y="10096"/>
                </a:cubicBezTo>
                <a:cubicBezTo>
                  <a:pt x="1104" y="10072"/>
                  <a:pt x="1157" y="9965"/>
                  <a:pt x="1191" y="9872"/>
                </a:cubicBezTo>
                <a:cubicBezTo>
                  <a:pt x="1102" y="9820"/>
                  <a:pt x="1040" y="9778"/>
                  <a:pt x="967" y="9897"/>
                </a:cubicBezTo>
                <a:cubicBezTo>
                  <a:pt x="911" y="9988"/>
                  <a:pt x="900" y="10025"/>
                  <a:pt x="943" y="10096"/>
                </a:cubicBezTo>
              </a:path>
              <a:path w="5805" h="4019">
                <a:moveTo>
                  <a:pt x="1290" y="10046"/>
                </a:moveTo>
                <a:cubicBezTo>
                  <a:pt x="1276" y="10100"/>
                  <a:pt x="1185" y="10297"/>
                  <a:pt x="1290" y="10244"/>
                </a:cubicBezTo>
              </a:path>
              <a:path w="5805" h="4019">
                <a:moveTo>
                  <a:pt x="1389" y="9599"/>
                </a:moveTo>
                <a:cubicBezTo>
                  <a:pt x="1421" y="9576"/>
                  <a:pt x="1544" y="9560"/>
                  <a:pt x="1612" y="9550"/>
                </a:cubicBezTo>
                <a:cubicBezTo>
                  <a:pt x="1627" y="9711"/>
                  <a:pt x="1626" y="9864"/>
                  <a:pt x="1588" y="10021"/>
                </a:cubicBezTo>
              </a:path>
              <a:path w="5805" h="4019">
                <a:moveTo>
                  <a:pt x="1885" y="9401"/>
                </a:moveTo>
                <a:cubicBezTo>
                  <a:pt x="2008" y="9623"/>
                  <a:pt x="2047" y="9795"/>
                  <a:pt x="1960" y="10046"/>
                </a:cubicBezTo>
                <a:cubicBezTo>
                  <a:pt x="1913" y="10139"/>
                  <a:pt x="1903" y="10168"/>
                  <a:pt x="1836" y="10195"/>
                </a:cubicBezTo>
              </a:path>
              <a:path w="5805" h="4019">
                <a:moveTo>
                  <a:pt x="595" y="10443"/>
                </a:moveTo>
                <a:cubicBezTo>
                  <a:pt x="539" y="10667"/>
                  <a:pt x="521" y="10845"/>
                  <a:pt x="521" y="11088"/>
                </a:cubicBezTo>
                <a:cubicBezTo>
                  <a:pt x="521" y="11272"/>
                  <a:pt x="480" y="11311"/>
                  <a:pt x="620" y="11311"/>
                </a:cubicBezTo>
              </a:path>
              <a:path w="5805" h="4019">
                <a:moveTo>
                  <a:pt x="943" y="10716"/>
                </a:moveTo>
                <a:cubicBezTo>
                  <a:pt x="914" y="10888"/>
                  <a:pt x="831" y="11032"/>
                  <a:pt x="843" y="11212"/>
                </a:cubicBezTo>
                <a:cubicBezTo>
                  <a:pt x="851" y="11245"/>
                  <a:pt x="860" y="11278"/>
                  <a:pt x="868" y="11311"/>
                </a:cubicBezTo>
                <a:cubicBezTo>
                  <a:pt x="1021" y="11322"/>
                  <a:pt x="1178" y="11282"/>
                  <a:pt x="1240" y="11112"/>
                </a:cubicBezTo>
                <a:cubicBezTo>
                  <a:pt x="1240" y="11087"/>
                  <a:pt x="1240" y="11063"/>
                  <a:pt x="1240" y="11038"/>
                </a:cubicBezTo>
                <a:cubicBezTo>
                  <a:pt x="1102" y="11038"/>
                  <a:pt x="1055" y="11091"/>
                  <a:pt x="1017" y="11237"/>
                </a:cubicBezTo>
                <a:cubicBezTo>
                  <a:pt x="1017" y="11305"/>
                  <a:pt x="1012" y="11327"/>
                  <a:pt x="1067" y="11336"/>
                </a:cubicBezTo>
              </a:path>
              <a:path w="5805" h="4019">
                <a:moveTo>
                  <a:pt x="1414" y="11286"/>
                </a:moveTo>
                <a:cubicBezTo>
                  <a:pt x="1414" y="11338"/>
                  <a:pt x="1372" y="11547"/>
                  <a:pt x="1439" y="11435"/>
                </a:cubicBezTo>
              </a:path>
              <a:path w="5805" h="4019">
                <a:moveTo>
                  <a:pt x="1712" y="10889"/>
                </a:moveTo>
                <a:cubicBezTo>
                  <a:pt x="1732" y="11021"/>
                  <a:pt x="1630" y="11261"/>
                  <a:pt x="1761" y="11286"/>
                </a:cubicBezTo>
                <a:cubicBezTo>
                  <a:pt x="1769" y="11278"/>
                  <a:pt x="1778" y="11269"/>
                  <a:pt x="1786" y="11261"/>
                </a:cubicBezTo>
              </a:path>
              <a:path w="5805" h="4019">
                <a:moveTo>
                  <a:pt x="2034" y="10641"/>
                </a:moveTo>
                <a:cubicBezTo>
                  <a:pt x="2223" y="10974"/>
                  <a:pt x="2221" y="11072"/>
                  <a:pt x="2034" y="11410"/>
                </a:cubicBezTo>
              </a:path>
              <a:path w="5805" h="4019">
                <a:moveTo>
                  <a:pt x="546" y="11733"/>
                </a:moveTo>
                <a:cubicBezTo>
                  <a:pt x="488" y="11919"/>
                  <a:pt x="325" y="12333"/>
                  <a:pt x="422" y="12526"/>
                </a:cubicBezTo>
                <a:cubicBezTo>
                  <a:pt x="528" y="12579"/>
                  <a:pt x="568" y="12593"/>
                  <a:pt x="645" y="12526"/>
                </a:cubicBezTo>
              </a:path>
              <a:path w="5805" h="4019">
                <a:moveTo>
                  <a:pt x="967" y="12030"/>
                </a:moveTo>
                <a:cubicBezTo>
                  <a:pt x="1174" y="12030"/>
                  <a:pt x="1299" y="12121"/>
                  <a:pt x="1191" y="12353"/>
                </a:cubicBezTo>
                <a:cubicBezTo>
                  <a:pt x="1137" y="12469"/>
                  <a:pt x="930" y="12551"/>
                  <a:pt x="868" y="12402"/>
                </a:cubicBezTo>
                <a:cubicBezTo>
                  <a:pt x="868" y="12386"/>
                  <a:pt x="868" y="12369"/>
                  <a:pt x="868" y="12353"/>
                </a:cubicBezTo>
                <a:cubicBezTo>
                  <a:pt x="964" y="12323"/>
                  <a:pt x="1113" y="12263"/>
                  <a:pt x="1215" y="12303"/>
                </a:cubicBezTo>
                <a:cubicBezTo>
                  <a:pt x="1257" y="12319"/>
                  <a:pt x="1253" y="12376"/>
                  <a:pt x="1290" y="12402"/>
                </a:cubicBezTo>
              </a:path>
              <a:path w="5805" h="4019">
                <a:moveTo>
                  <a:pt x="1488" y="12378"/>
                </a:moveTo>
                <a:cubicBezTo>
                  <a:pt x="1493" y="12453"/>
                  <a:pt x="1459" y="12499"/>
                  <a:pt x="1513" y="12551"/>
                </a:cubicBezTo>
              </a:path>
              <a:path w="5805" h="4019">
                <a:moveTo>
                  <a:pt x="1860" y="12105"/>
                </a:moveTo>
                <a:cubicBezTo>
                  <a:pt x="1911" y="12217"/>
                  <a:pt x="1910" y="12326"/>
                  <a:pt x="1910" y="12452"/>
                </a:cubicBezTo>
              </a:path>
              <a:path w="5805" h="4019">
                <a:moveTo>
                  <a:pt x="2183" y="11832"/>
                </a:moveTo>
                <a:cubicBezTo>
                  <a:pt x="2309" y="12165"/>
                  <a:pt x="2338" y="12287"/>
                  <a:pt x="2108" y="12576"/>
                </a:cubicBezTo>
              </a:path>
              <a:path w="5805" h="4019">
                <a:moveTo>
                  <a:pt x="2977" y="9451"/>
                </a:moveTo>
                <a:cubicBezTo>
                  <a:pt x="3005" y="9451"/>
                  <a:pt x="2891" y="9649"/>
                  <a:pt x="2877" y="9699"/>
                </a:cubicBezTo>
                <a:cubicBezTo>
                  <a:pt x="2815" y="9915"/>
                  <a:pt x="2812" y="10033"/>
                  <a:pt x="2902" y="10195"/>
                </a:cubicBezTo>
                <a:cubicBezTo>
                  <a:pt x="2902" y="10220"/>
                  <a:pt x="2902" y="10228"/>
                  <a:pt x="2902" y="10244"/>
                </a:cubicBezTo>
              </a:path>
              <a:path w="5805" h="4019">
                <a:moveTo>
                  <a:pt x="1265" y="8682"/>
                </a:moveTo>
                <a:cubicBezTo>
                  <a:pt x="1250" y="8829"/>
                  <a:pt x="1216" y="8965"/>
                  <a:pt x="1166" y="9103"/>
                </a:cubicBezTo>
                <a:cubicBezTo>
                  <a:pt x="1166" y="8964"/>
                  <a:pt x="1196" y="8839"/>
                  <a:pt x="1240" y="8706"/>
                </a:cubicBezTo>
                <a:cubicBezTo>
                  <a:pt x="1288" y="8562"/>
                  <a:pt x="1267" y="8599"/>
                  <a:pt x="1364" y="8558"/>
                </a:cubicBezTo>
                <a:cubicBezTo>
                  <a:pt x="1387" y="8740"/>
                  <a:pt x="1358" y="8904"/>
                  <a:pt x="1290" y="9079"/>
                </a:cubicBezTo>
                <a:cubicBezTo>
                  <a:pt x="1282" y="9095"/>
                  <a:pt x="1273" y="9112"/>
                  <a:pt x="1265" y="9128"/>
                </a:cubicBezTo>
              </a:path>
              <a:path w="5805" h="4019">
                <a:moveTo>
                  <a:pt x="1240" y="8979"/>
                </a:moveTo>
                <a:cubicBezTo>
                  <a:pt x="1365" y="8927"/>
                  <a:pt x="1485" y="8877"/>
                  <a:pt x="1612" y="8830"/>
                </a:cubicBezTo>
              </a:path>
              <a:path w="5805" h="4019">
                <a:moveTo>
                  <a:pt x="3398" y="8880"/>
                </a:moveTo>
                <a:cubicBezTo>
                  <a:pt x="3398" y="9001"/>
                  <a:pt x="3347" y="9095"/>
                  <a:pt x="3299" y="9203"/>
                </a:cubicBezTo>
                <a:cubicBezTo>
                  <a:pt x="3249" y="9186"/>
                  <a:pt x="3336" y="8987"/>
                  <a:pt x="3349" y="8954"/>
                </a:cubicBezTo>
                <a:cubicBezTo>
                  <a:pt x="3385" y="8865"/>
                  <a:pt x="3446" y="8731"/>
                  <a:pt x="3547" y="8706"/>
                </a:cubicBezTo>
                <a:cubicBezTo>
                  <a:pt x="3608" y="8862"/>
                  <a:pt x="3638" y="9009"/>
                  <a:pt x="3646" y="9178"/>
                </a:cubicBezTo>
                <a:cubicBezTo>
                  <a:pt x="3646" y="9186"/>
                  <a:pt x="3646" y="9195"/>
                  <a:pt x="3646" y="9203"/>
                </a:cubicBezTo>
              </a:path>
              <a:path w="5805" h="4019">
                <a:moveTo>
                  <a:pt x="3299" y="9079"/>
                </a:moveTo>
                <a:cubicBezTo>
                  <a:pt x="3368" y="9069"/>
                  <a:pt x="3455" y="9070"/>
                  <a:pt x="3522" y="9054"/>
                </a:cubicBezTo>
                <a:cubicBezTo>
                  <a:pt x="3547" y="9046"/>
                  <a:pt x="3572" y="9037"/>
                  <a:pt x="3597" y="9029"/>
                </a:cubicBezTo>
              </a:path>
              <a:path w="5805" h="4019">
                <a:moveTo>
                  <a:pt x="4043" y="8706"/>
                </a:moveTo>
                <a:cubicBezTo>
                  <a:pt x="4035" y="8789"/>
                  <a:pt x="4024" y="8871"/>
                  <a:pt x="4018" y="8954"/>
                </a:cubicBezTo>
              </a:path>
              <a:path w="5805" h="4019">
                <a:moveTo>
                  <a:pt x="3026" y="9897"/>
                </a:moveTo>
                <a:cubicBezTo>
                  <a:pt x="3079" y="9897"/>
                  <a:pt x="3124" y="9881"/>
                  <a:pt x="3175" y="9872"/>
                </a:cubicBezTo>
              </a:path>
              <a:path w="5805" h="4019">
                <a:moveTo>
                  <a:pt x="3324" y="9599"/>
                </a:moveTo>
                <a:cubicBezTo>
                  <a:pt x="3324" y="9715"/>
                  <a:pt x="3270" y="9987"/>
                  <a:pt x="3373" y="10046"/>
                </a:cubicBezTo>
                <a:cubicBezTo>
                  <a:pt x="3449" y="10090"/>
                  <a:pt x="3666" y="10067"/>
                  <a:pt x="3671" y="9947"/>
                </a:cubicBezTo>
                <a:cubicBezTo>
                  <a:pt x="3673" y="9888"/>
                  <a:pt x="3576" y="9801"/>
                  <a:pt x="3522" y="9872"/>
                </a:cubicBezTo>
                <a:cubicBezTo>
                  <a:pt x="3488" y="9916"/>
                  <a:pt x="3444" y="10053"/>
                  <a:pt x="3497" y="10071"/>
                </a:cubicBezTo>
              </a:path>
              <a:path w="5805" h="4019">
                <a:moveTo>
                  <a:pt x="3845" y="10021"/>
                </a:moveTo>
                <a:cubicBezTo>
                  <a:pt x="3864" y="10085"/>
                  <a:pt x="3854" y="10107"/>
                  <a:pt x="3894" y="10120"/>
                </a:cubicBezTo>
              </a:path>
              <a:path w="5805" h="4019">
                <a:moveTo>
                  <a:pt x="3994" y="9624"/>
                </a:moveTo>
                <a:cubicBezTo>
                  <a:pt x="4043" y="9624"/>
                  <a:pt x="4093" y="9624"/>
                  <a:pt x="4142" y="9624"/>
                </a:cubicBezTo>
                <a:cubicBezTo>
                  <a:pt x="4142" y="9748"/>
                  <a:pt x="4142" y="9872"/>
                  <a:pt x="4142" y="9996"/>
                </a:cubicBezTo>
              </a:path>
              <a:path w="5805" h="4019">
                <a:moveTo>
                  <a:pt x="4291" y="9401"/>
                </a:moveTo>
                <a:cubicBezTo>
                  <a:pt x="4458" y="9568"/>
                  <a:pt x="4632" y="9784"/>
                  <a:pt x="4514" y="10046"/>
                </a:cubicBezTo>
                <a:cubicBezTo>
                  <a:pt x="4481" y="10079"/>
                  <a:pt x="4448" y="10112"/>
                  <a:pt x="4415" y="10145"/>
                </a:cubicBezTo>
              </a:path>
              <a:path w="5805" h="4019">
                <a:moveTo>
                  <a:pt x="2803" y="10517"/>
                </a:moveTo>
                <a:cubicBezTo>
                  <a:pt x="2768" y="10799"/>
                  <a:pt x="2754" y="11055"/>
                  <a:pt x="2778" y="11336"/>
                </a:cubicBezTo>
                <a:cubicBezTo>
                  <a:pt x="2778" y="11352"/>
                  <a:pt x="2778" y="11369"/>
                  <a:pt x="2778" y="11385"/>
                </a:cubicBezTo>
              </a:path>
              <a:path w="5805" h="4019">
                <a:moveTo>
                  <a:pt x="2927" y="11038"/>
                </a:moveTo>
                <a:cubicBezTo>
                  <a:pt x="2989" y="11033"/>
                  <a:pt x="3040" y="11023"/>
                  <a:pt x="3101" y="11013"/>
                </a:cubicBezTo>
              </a:path>
              <a:path w="5805" h="4019">
                <a:moveTo>
                  <a:pt x="3349" y="10641"/>
                </a:moveTo>
                <a:cubicBezTo>
                  <a:pt x="3327" y="10797"/>
                  <a:pt x="3289" y="10954"/>
                  <a:pt x="3274" y="11112"/>
                </a:cubicBezTo>
                <a:cubicBezTo>
                  <a:pt x="3274" y="11137"/>
                  <a:pt x="3274" y="11162"/>
                  <a:pt x="3274" y="11187"/>
                </a:cubicBezTo>
                <a:cubicBezTo>
                  <a:pt x="3434" y="11249"/>
                  <a:pt x="3503" y="11215"/>
                  <a:pt x="3597" y="11063"/>
                </a:cubicBezTo>
                <a:cubicBezTo>
                  <a:pt x="3617" y="11022"/>
                  <a:pt x="3625" y="11016"/>
                  <a:pt x="3621" y="10988"/>
                </a:cubicBezTo>
                <a:cubicBezTo>
                  <a:pt x="3508" y="10988"/>
                  <a:pt x="3457" y="10976"/>
                  <a:pt x="3423" y="11112"/>
                </a:cubicBezTo>
                <a:cubicBezTo>
                  <a:pt x="3393" y="11232"/>
                  <a:pt x="3414" y="11221"/>
                  <a:pt x="3497" y="11212"/>
                </a:cubicBezTo>
              </a:path>
              <a:path w="5805" h="4019">
                <a:moveTo>
                  <a:pt x="3894" y="11063"/>
                </a:moveTo>
                <a:cubicBezTo>
                  <a:pt x="3913" y="11124"/>
                  <a:pt x="3919" y="11245"/>
                  <a:pt x="3969" y="11261"/>
                </a:cubicBezTo>
              </a:path>
              <a:path w="5805" h="4019">
                <a:moveTo>
                  <a:pt x="4266" y="10691"/>
                </a:moveTo>
                <a:cubicBezTo>
                  <a:pt x="4290" y="10823"/>
                  <a:pt x="4296" y="11026"/>
                  <a:pt x="4366" y="11112"/>
                </a:cubicBezTo>
              </a:path>
              <a:path w="5805" h="4019">
                <a:moveTo>
                  <a:pt x="4614" y="10592"/>
                </a:moveTo>
                <a:cubicBezTo>
                  <a:pt x="4726" y="10816"/>
                  <a:pt x="4914" y="11062"/>
                  <a:pt x="4738" y="11311"/>
                </a:cubicBezTo>
                <a:cubicBezTo>
                  <a:pt x="4694" y="11333"/>
                  <a:pt x="4682" y="11346"/>
                  <a:pt x="4663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00080" y="4224240"/>
            <a:ext cx="339840" cy="26856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2853" y="11733"/>
                </a:moveTo>
                <a:cubicBezTo>
                  <a:pt x="2806" y="11910"/>
                  <a:pt x="2670" y="12320"/>
                  <a:pt x="2828" y="12477"/>
                </a:cubicBezTo>
                <a:cubicBezTo>
                  <a:pt x="2836" y="12477"/>
                  <a:pt x="2845" y="12477"/>
                  <a:pt x="2853" y="12477"/>
                </a:cubicBezTo>
              </a:path>
              <a:path w="944" h="745">
                <a:moveTo>
                  <a:pt x="3026" y="12080"/>
                </a:moveTo>
                <a:cubicBezTo>
                  <a:pt x="3081" y="12066"/>
                  <a:pt x="3135" y="12039"/>
                  <a:pt x="3200" y="12030"/>
                </a:cubicBezTo>
              </a:path>
              <a:path w="944" h="745">
                <a:moveTo>
                  <a:pt x="3373" y="11881"/>
                </a:moveTo>
                <a:cubicBezTo>
                  <a:pt x="3490" y="11816"/>
                  <a:pt x="3626" y="11798"/>
                  <a:pt x="3646" y="11981"/>
                </a:cubicBezTo>
                <a:cubicBezTo>
                  <a:pt x="3667" y="12177"/>
                  <a:pt x="3529" y="12359"/>
                  <a:pt x="3324" y="12328"/>
                </a:cubicBezTo>
                <a:cubicBezTo>
                  <a:pt x="3316" y="12320"/>
                  <a:pt x="3307" y="12311"/>
                  <a:pt x="3299" y="12303"/>
                </a:cubicBezTo>
                <a:cubicBezTo>
                  <a:pt x="3398" y="12150"/>
                  <a:pt x="3440" y="12116"/>
                  <a:pt x="3621" y="12204"/>
                </a:cubicBezTo>
                <a:cubicBezTo>
                  <a:pt x="3709" y="12247"/>
                  <a:pt x="3711" y="12271"/>
                  <a:pt x="3721" y="1235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5840" y="4170240"/>
            <a:ext cx="330120" cy="33048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4043" y="12303"/>
                </a:moveTo>
                <a:cubicBezTo>
                  <a:pt x="4065" y="12382"/>
                  <a:pt x="4048" y="12418"/>
                  <a:pt x="4093" y="12402"/>
                </a:cubicBezTo>
              </a:path>
              <a:path w="919" h="919">
                <a:moveTo>
                  <a:pt x="4366" y="11931"/>
                </a:moveTo>
                <a:cubicBezTo>
                  <a:pt x="4426" y="12039"/>
                  <a:pt x="4469" y="12178"/>
                  <a:pt x="4490" y="12303"/>
                </a:cubicBezTo>
                <a:cubicBezTo>
                  <a:pt x="4490" y="12320"/>
                  <a:pt x="4490" y="12336"/>
                  <a:pt x="4490" y="12353"/>
                </a:cubicBezTo>
              </a:path>
              <a:path w="919" h="919">
                <a:moveTo>
                  <a:pt x="4638" y="11584"/>
                </a:moveTo>
                <a:cubicBezTo>
                  <a:pt x="4793" y="11807"/>
                  <a:pt x="5017" y="12035"/>
                  <a:pt x="4936" y="12328"/>
                </a:cubicBezTo>
                <a:cubicBezTo>
                  <a:pt x="4871" y="12436"/>
                  <a:pt x="4862" y="12468"/>
                  <a:pt x="4787" y="125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ver the y-axis, then over the x-axis.  Record the ordered pairs for each vertex.  What do you notice about the coordin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378480" cy="4808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5181120" y="990720"/>
            <a:ext cx="838440" cy="12189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990720"/>
            <a:ext cx="380880" cy="12189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22096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9960" y="1009800"/>
            <a:ext cx="3581280" cy="1670040"/>
          </a:xfrm>
          <a:custGeom>
            <a:avLst/>
            <a:gdLst/>
            <a:ahLst/>
            <a:rect l="l" t="t" r="r" b="b"/>
            <a:pathLst>
              <a:path w="9947" h="4639">
                <a:moveTo>
                  <a:pt x="13841" y="6524"/>
                </a:moveTo>
                <a:cubicBezTo>
                  <a:pt x="13783" y="6696"/>
                  <a:pt x="13616" y="6815"/>
                  <a:pt x="13543" y="6995"/>
                </a:cubicBezTo>
                <a:cubicBezTo>
                  <a:pt x="13490" y="7126"/>
                  <a:pt x="13532" y="7168"/>
                  <a:pt x="13618" y="7243"/>
                </a:cubicBezTo>
              </a:path>
              <a:path w="9947" h="4639">
                <a:moveTo>
                  <a:pt x="14908" y="6524"/>
                </a:moveTo>
                <a:cubicBezTo>
                  <a:pt x="15063" y="6636"/>
                  <a:pt x="15074" y="6796"/>
                  <a:pt x="15032" y="6995"/>
                </a:cubicBezTo>
                <a:cubicBezTo>
                  <a:pt x="14995" y="7173"/>
                  <a:pt x="14950" y="7202"/>
                  <a:pt x="14808" y="7268"/>
                </a:cubicBezTo>
              </a:path>
              <a:path w="9947" h="4639">
                <a:moveTo>
                  <a:pt x="14362" y="7069"/>
                </a:moveTo>
                <a:cubicBezTo>
                  <a:pt x="14326" y="7214"/>
                  <a:pt x="14286" y="7309"/>
                  <a:pt x="14213" y="7441"/>
                </a:cubicBezTo>
              </a:path>
              <a:path w="9947" h="4639">
                <a:moveTo>
                  <a:pt x="13965" y="6623"/>
                </a:moveTo>
                <a:cubicBezTo>
                  <a:pt x="13965" y="6757"/>
                  <a:pt x="13948" y="6886"/>
                  <a:pt x="13940" y="7020"/>
                </a:cubicBezTo>
                <a:cubicBezTo>
                  <a:pt x="13940" y="7121"/>
                  <a:pt x="13950" y="7142"/>
                  <a:pt x="13915" y="7193"/>
                </a:cubicBezTo>
              </a:path>
              <a:path w="9947" h="4639">
                <a:moveTo>
                  <a:pt x="14660" y="6722"/>
                </a:moveTo>
                <a:cubicBezTo>
                  <a:pt x="14660" y="6855"/>
                  <a:pt x="14655" y="7016"/>
                  <a:pt x="14684" y="7144"/>
                </a:cubicBezTo>
                <a:cubicBezTo>
                  <a:pt x="14707" y="7167"/>
                  <a:pt x="14718" y="7175"/>
                  <a:pt x="14684" y="7169"/>
                </a:cubicBezTo>
              </a:path>
              <a:path w="9947" h="4639">
                <a:moveTo>
                  <a:pt x="5358" y="6201"/>
                </a:moveTo>
                <a:cubicBezTo>
                  <a:pt x="5299" y="6201"/>
                  <a:pt x="5261" y="6215"/>
                  <a:pt x="5234" y="6226"/>
                </a:cubicBezTo>
                <a:cubicBezTo>
                  <a:pt x="5219" y="6232"/>
                  <a:pt x="5232" y="6073"/>
                  <a:pt x="5209" y="6028"/>
                </a:cubicBezTo>
                <a:cubicBezTo>
                  <a:pt x="5086" y="6028"/>
                  <a:pt x="5116" y="6100"/>
                  <a:pt x="5135" y="6201"/>
                </a:cubicBezTo>
                <a:cubicBezTo>
                  <a:pt x="5209" y="6183"/>
                  <a:pt x="5308" y="6113"/>
                  <a:pt x="5209" y="6028"/>
                </a:cubicBezTo>
                <a:cubicBezTo>
                  <a:pt x="5184" y="6028"/>
                  <a:pt x="5176" y="6028"/>
                  <a:pt x="5159" y="6028"/>
                </a:cubicBezTo>
              </a:path>
              <a:path w="9947" h="4639">
                <a:moveTo>
                  <a:pt x="6375" y="2803"/>
                </a:moveTo>
                <a:cubicBezTo>
                  <a:pt x="6340" y="2885"/>
                  <a:pt x="6288" y="2966"/>
                  <a:pt x="6251" y="3051"/>
                </a:cubicBezTo>
                <a:cubicBezTo>
                  <a:pt x="6193" y="3184"/>
                  <a:pt x="6165" y="3334"/>
                  <a:pt x="6127" y="3473"/>
                </a:cubicBezTo>
                <a:cubicBezTo>
                  <a:pt x="6099" y="3574"/>
                  <a:pt x="6078" y="3642"/>
                  <a:pt x="6052" y="3746"/>
                </a:cubicBezTo>
                <a:cubicBezTo>
                  <a:pt x="6029" y="3838"/>
                  <a:pt x="5991" y="3925"/>
                  <a:pt x="5978" y="4018"/>
                </a:cubicBezTo>
                <a:cubicBezTo>
                  <a:pt x="5959" y="4150"/>
                  <a:pt x="5919" y="4285"/>
                  <a:pt x="5879" y="4415"/>
                </a:cubicBezTo>
                <a:cubicBezTo>
                  <a:pt x="5844" y="4529"/>
                  <a:pt x="5812" y="4646"/>
                  <a:pt x="5779" y="4762"/>
                </a:cubicBezTo>
                <a:cubicBezTo>
                  <a:pt x="5748" y="4870"/>
                  <a:pt x="5693" y="4956"/>
                  <a:pt x="5655" y="5060"/>
                </a:cubicBezTo>
                <a:cubicBezTo>
                  <a:pt x="5624" y="5144"/>
                  <a:pt x="5593" y="5226"/>
                  <a:pt x="5556" y="5308"/>
                </a:cubicBezTo>
                <a:cubicBezTo>
                  <a:pt x="5528" y="5371"/>
                  <a:pt x="5490" y="5422"/>
                  <a:pt x="5457" y="5482"/>
                </a:cubicBezTo>
                <a:cubicBezTo>
                  <a:pt x="5412" y="5563"/>
                  <a:pt x="5371" y="5681"/>
                  <a:pt x="5333" y="5779"/>
                </a:cubicBezTo>
                <a:cubicBezTo>
                  <a:pt x="5304" y="5853"/>
                  <a:pt x="5283" y="5904"/>
                  <a:pt x="5259" y="5978"/>
                </a:cubicBezTo>
                <a:cubicBezTo>
                  <a:pt x="5240" y="6036"/>
                  <a:pt x="5198" y="6093"/>
                  <a:pt x="5184" y="6152"/>
                </a:cubicBezTo>
                <a:cubicBezTo>
                  <a:pt x="5169" y="6215"/>
                  <a:pt x="5177" y="6222"/>
                  <a:pt x="5159" y="6276"/>
                </a:cubicBezTo>
              </a:path>
              <a:path w="9947" h="4639">
                <a:moveTo>
                  <a:pt x="12105" y="6201"/>
                </a:moveTo>
                <a:cubicBezTo>
                  <a:pt x="12124" y="6121"/>
                  <a:pt x="12143" y="6116"/>
                  <a:pt x="12080" y="6052"/>
                </a:cubicBezTo>
                <a:cubicBezTo>
                  <a:pt x="12021" y="6089"/>
                  <a:pt x="11892" y="6167"/>
                  <a:pt x="11981" y="6226"/>
                </a:cubicBezTo>
                <a:cubicBezTo>
                  <a:pt x="12007" y="6212"/>
                  <a:pt x="12197" y="6067"/>
                  <a:pt x="12055" y="6102"/>
                </a:cubicBezTo>
                <a:cubicBezTo>
                  <a:pt x="12038" y="6110"/>
                  <a:pt x="12022" y="6119"/>
                  <a:pt x="12005" y="6127"/>
                </a:cubicBezTo>
              </a:path>
              <a:path w="9947" h="4639">
                <a:moveTo>
                  <a:pt x="5383" y="6226"/>
                </a:moveTo>
                <a:cubicBezTo>
                  <a:pt x="5351" y="6210"/>
                  <a:pt x="5365" y="6217"/>
                  <a:pt x="5333" y="6201"/>
                </a:cubicBezTo>
                <a:cubicBezTo>
                  <a:pt x="5450" y="6214"/>
                  <a:pt x="5561" y="6224"/>
                  <a:pt x="5680" y="6226"/>
                </a:cubicBezTo>
                <a:cubicBezTo>
                  <a:pt x="5777" y="6228"/>
                  <a:pt x="5873" y="6229"/>
                  <a:pt x="5978" y="6226"/>
                </a:cubicBezTo>
                <a:cubicBezTo>
                  <a:pt x="6194" y="6220"/>
                  <a:pt x="6410" y="6233"/>
                  <a:pt x="6623" y="6201"/>
                </a:cubicBezTo>
                <a:cubicBezTo>
                  <a:pt x="6781" y="6178"/>
                  <a:pt x="6935" y="6144"/>
                  <a:pt x="7094" y="6127"/>
                </a:cubicBezTo>
                <a:cubicBezTo>
                  <a:pt x="7258" y="6109"/>
                  <a:pt x="7424" y="6104"/>
                  <a:pt x="7590" y="6102"/>
                </a:cubicBezTo>
                <a:cubicBezTo>
                  <a:pt x="8527" y="6091"/>
                  <a:pt x="9460" y="6127"/>
                  <a:pt x="10393" y="6127"/>
                </a:cubicBezTo>
                <a:cubicBezTo>
                  <a:pt x="10819" y="6127"/>
                  <a:pt x="11274" y="6133"/>
                  <a:pt x="11683" y="6152"/>
                </a:cubicBezTo>
                <a:cubicBezTo>
                  <a:pt x="11822" y="6158"/>
                  <a:pt x="11980" y="6168"/>
                  <a:pt x="12105" y="6176"/>
                </a:cubicBezTo>
                <a:cubicBezTo>
                  <a:pt x="12129" y="6178"/>
                  <a:pt x="12155" y="6173"/>
                  <a:pt x="12179" y="6176"/>
                </a:cubicBezTo>
                <a:cubicBezTo>
                  <a:pt x="12146" y="6142"/>
                  <a:pt x="12093" y="6096"/>
                  <a:pt x="12055" y="6052"/>
                </a:cubicBezTo>
                <a:cubicBezTo>
                  <a:pt x="11983" y="5967"/>
                  <a:pt x="11885" y="5865"/>
                  <a:pt x="11832" y="5779"/>
                </a:cubicBezTo>
                <a:cubicBezTo>
                  <a:pt x="11779" y="5694"/>
                  <a:pt x="11722" y="5592"/>
                  <a:pt x="11683" y="5507"/>
                </a:cubicBezTo>
                <a:cubicBezTo>
                  <a:pt x="11663" y="5463"/>
                  <a:pt x="11621" y="5383"/>
                  <a:pt x="11609" y="5358"/>
                </a:cubicBezTo>
                <a:cubicBezTo>
                  <a:pt x="11591" y="5319"/>
                  <a:pt x="11553" y="5275"/>
                  <a:pt x="11534" y="5234"/>
                </a:cubicBezTo>
                <a:cubicBezTo>
                  <a:pt x="11507" y="5177"/>
                  <a:pt x="11492" y="5099"/>
                  <a:pt x="11460" y="5035"/>
                </a:cubicBezTo>
                <a:cubicBezTo>
                  <a:pt x="11429" y="4973"/>
                  <a:pt x="11397" y="4892"/>
                  <a:pt x="11361" y="4837"/>
                </a:cubicBezTo>
                <a:cubicBezTo>
                  <a:pt x="11320" y="4775"/>
                  <a:pt x="11278" y="4713"/>
                  <a:pt x="11237" y="4638"/>
                </a:cubicBezTo>
                <a:cubicBezTo>
                  <a:pt x="11177" y="4527"/>
                  <a:pt x="11112" y="4418"/>
                  <a:pt x="11038" y="4316"/>
                </a:cubicBezTo>
                <a:cubicBezTo>
                  <a:pt x="10989" y="4248"/>
                  <a:pt x="10902" y="4172"/>
                  <a:pt x="10864" y="4118"/>
                </a:cubicBezTo>
                <a:cubicBezTo>
                  <a:pt x="10810" y="4041"/>
                  <a:pt x="10767" y="3950"/>
                  <a:pt x="10716" y="3870"/>
                </a:cubicBezTo>
                <a:cubicBezTo>
                  <a:pt x="10676" y="3808"/>
                  <a:pt x="10680" y="3813"/>
                  <a:pt x="10641" y="3746"/>
                </a:cubicBezTo>
                <a:cubicBezTo>
                  <a:pt x="10570" y="3625"/>
                  <a:pt x="10493" y="3495"/>
                  <a:pt x="10393" y="3398"/>
                </a:cubicBezTo>
                <a:cubicBezTo>
                  <a:pt x="10337" y="3344"/>
                  <a:pt x="10287" y="3305"/>
                  <a:pt x="10220" y="3249"/>
                </a:cubicBezTo>
                <a:cubicBezTo>
                  <a:pt x="10163" y="3201"/>
                  <a:pt x="10107" y="3171"/>
                  <a:pt x="10046" y="3125"/>
                </a:cubicBezTo>
                <a:cubicBezTo>
                  <a:pt x="10011" y="3098"/>
                  <a:pt x="9961" y="3060"/>
                  <a:pt x="9922" y="3026"/>
                </a:cubicBezTo>
                <a:cubicBezTo>
                  <a:pt x="9910" y="3015"/>
                  <a:pt x="9867" y="2980"/>
                  <a:pt x="9847" y="2952"/>
                </a:cubicBezTo>
                <a:cubicBezTo>
                  <a:pt x="9830" y="2929"/>
                  <a:pt x="9842" y="2904"/>
                  <a:pt x="9823" y="287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4960" y="2276640"/>
            <a:ext cx="2687760" cy="2063520"/>
          </a:xfrm>
          <a:custGeom>
            <a:avLst/>
            <a:gdLst/>
            <a:ahLst/>
            <a:rect l="l" t="t" r="r" b="b"/>
            <a:pathLst>
              <a:path w="7467" h="5731">
                <a:moveTo>
                  <a:pt x="20638" y="6325"/>
                </a:moveTo>
                <a:cubicBezTo>
                  <a:pt x="20486" y="6454"/>
                  <a:pt x="20344" y="6727"/>
                  <a:pt x="20340" y="6945"/>
                </a:cubicBezTo>
                <a:cubicBezTo>
                  <a:pt x="20388" y="7066"/>
                  <a:pt x="20402" y="7106"/>
                  <a:pt x="20489" y="7144"/>
                </a:cubicBezTo>
              </a:path>
              <a:path w="7467" h="5731">
                <a:moveTo>
                  <a:pt x="21332" y="7045"/>
                </a:moveTo>
                <a:cubicBezTo>
                  <a:pt x="21280" y="7184"/>
                  <a:pt x="21210" y="7279"/>
                  <a:pt x="21109" y="7392"/>
                </a:cubicBezTo>
              </a:path>
              <a:path w="7467" h="5731">
                <a:moveTo>
                  <a:pt x="21903" y="6697"/>
                </a:moveTo>
                <a:cubicBezTo>
                  <a:pt x="21936" y="7010"/>
                  <a:pt x="21972" y="7165"/>
                  <a:pt x="21704" y="7342"/>
                </a:cubicBezTo>
              </a:path>
              <a:path w="7467" h="5731">
                <a:moveTo>
                  <a:pt x="20762" y="6648"/>
                </a:moveTo>
                <a:cubicBezTo>
                  <a:pt x="20773" y="6679"/>
                  <a:pt x="20811" y="6846"/>
                  <a:pt x="20811" y="6796"/>
                </a:cubicBezTo>
                <a:cubicBezTo>
                  <a:pt x="20841" y="6717"/>
                  <a:pt x="20853" y="6648"/>
                  <a:pt x="20935" y="6598"/>
                </a:cubicBezTo>
                <a:cubicBezTo>
                  <a:pt x="20952" y="6587"/>
                  <a:pt x="21036" y="6581"/>
                  <a:pt x="21059" y="6573"/>
                </a:cubicBezTo>
                <a:cubicBezTo>
                  <a:pt x="21067" y="6573"/>
                  <a:pt x="21076" y="6573"/>
                  <a:pt x="21084" y="6573"/>
                </a:cubicBezTo>
                <a:cubicBezTo>
                  <a:pt x="21058" y="6704"/>
                  <a:pt x="20998" y="6839"/>
                  <a:pt x="20960" y="6970"/>
                </a:cubicBezTo>
                <a:cubicBezTo>
                  <a:pt x="20940" y="7038"/>
                  <a:pt x="20935" y="7060"/>
                  <a:pt x="20935" y="7119"/>
                </a:cubicBezTo>
              </a:path>
              <a:path w="7467" h="5731">
                <a:moveTo>
                  <a:pt x="21555" y="6648"/>
                </a:moveTo>
                <a:cubicBezTo>
                  <a:pt x="21555" y="6623"/>
                  <a:pt x="21555" y="6615"/>
                  <a:pt x="21555" y="6598"/>
                </a:cubicBezTo>
                <a:cubicBezTo>
                  <a:pt x="21568" y="6739"/>
                  <a:pt x="21585" y="6882"/>
                  <a:pt x="21605" y="7020"/>
                </a:cubicBezTo>
                <a:cubicBezTo>
                  <a:pt x="21605" y="7028"/>
                  <a:pt x="21605" y="7037"/>
                  <a:pt x="21605" y="7045"/>
                </a:cubicBezTo>
              </a:path>
              <a:path w="7467" h="5731">
                <a:moveTo>
                  <a:pt x="16619" y="12005"/>
                </a:moveTo>
                <a:cubicBezTo>
                  <a:pt x="16666" y="11990"/>
                  <a:pt x="16699" y="11918"/>
                  <a:pt x="16718" y="11857"/>
                </a:cubicBezTo>
                <a:cubicBezTo>
                  <a:pt x="16718" y="11824"/>
                  <a:pt x="16710" y="11816"/>
                  <a:pt x="16669" y="11832"/>
                </a:cubicBezTo>
                <a:cubicBezTo>
                  <a:pt x="16645" y="11850"/>
                  <a:pt x="16474" y="12024"/>
                  <a:pt x="16644" y="11981"/>
                </a:cubicBezTo>
                <a:cubicBezTo>
                  <a:pt x="16701" y="11966"/>
                  <a:pt x="16881" y="11750"/>
                  <a:pt x="16718" y="11807"/>
                </a:cubicBezTo>
                <a:cubicBezTo>
                  <a:pt x="16584" y="11854"/>
                  <a:pt x="16531" y="11925"/>
                  <a:pt x="16669" y="11981"/>
                </a:cubicBezTo>
                <a:cubicBezTo>
                  <a:pt x="16731" y="11913"/>
                  <a:pt x="16816" y="11710"/>
                  <a:pt x="16694" y="11881"/>
                </a:cubicBezTo>
                <a:cubicBezTo>
                  <a:pt x="16652" y="11940"/>
                  <a:pt x="16655" y="11968"/>
                  <a:pt x="16694" y="11981"/>
                </a:cubicBezTo>
                <a:cubicBezTo>
                  <a:pt x="16714" y="11962"/>
                  <a:pt x="16898" y="11739"/>
                  <a:pt x="16743" y="11857"/>
                </a:cubicBezTo>
                <a:cubicBezTo>
                  <a:pt x="16650" y="11928"/>
                  <a:pt x="16687" y="11977"/>
                  <a:pt x="16768" y="11881"/>
                </a:cubicBezTo>
                <a:cubicBezTo>
                  <a:pt x="16813" y="11828"/>
                  <a:pt x="16733" y="11879"/>
                  <a:pt x="16718" y="11931"/>
                </a:cubicBezTo>
              </a:path>
              <a:path w="7467" h="5731">
                <a:moveTo>
                  <a:pt x="20241" y="11832"/>
                </a:moveTo>
                <a:cubicBezTo>
                  <a:pt x="20233" y="11807"/>
                  <a:pt x="20177" y="11780"/>
                  <a:pt x="20141" y="11807"/>
                </a:cubicBezTo>
                <a:cubicBezTo>
                  <a:pt x="20070" y="11860"/>
                  <a:pt x="19967" y="12045"/>
                  <a:pt x="20141" y="11981"/>
                </a:cubicBezTo>
                <a:cubicBezTo>
                  <a:pt x="20237" y="11933"/>
                  <a:pt x="20271" y="11921"/>
                  <a:pt x="20241" y="11832"/>
                </a:cubicBezTo>
                <a:cubicBezTo>
                  <a:pt x="20171" y="11824"/>
                  <a:pt x="20113" y="11821"/>
                  <a:pt x="20092" y="11906"/>
                </a:cubicBezTo>
                <a:cubicBezTo>
                  <a:pt x="20185" y="11885"/>
                  <a:pt x="20242" y="11787"/>
                  <a:pt x="20191" y="11832"/>
                </a:cubicBezTo>
                <a:cubicBezTo>
                  <a:pt x="20125" y="11890"/>
                  <a:pt x="20144" y="11912"/>
                  <a:pt x="20191" y="11931"/>
                </a:cubicBezTo>
                <a:cubicBezTo>
                  <a:pt x="20353" y="11801"/>
                  <a:pt x="20243" y="11824"/>
                  <a:pt x="20117" y="11881"/>
                </a:cubicBezTo>
              </a:path>
              <a:path w="7467" h="5731">
                <a:moveTo>
                  <a:pt x="16768" y="11931"/>
                </a:moveTo>
                <a:cubicBezTo>
                  <a:pt x="16944" y="11931"/>
                  <a:pt x="17114" y="11910"/>
                  <a:pt x="17289" y="11906"/>
                </a:cubicBezTo>
                <a:cubicBezTo>
                  <a:pt x="17613" y="11899"/>
                  <a:pt x="17936" y="11909"/>
                  <a:pt x="18256" y="11881"/>
                </a:cubicBezTo>
                <a:cubicBezTo>
                  <a:pt x="18378" y="11870"/>
                  <a:pt x="18486" y="11902"/>
                  <a:pt x="18604" y="11906"/>
                </a:cubicBezTo>
                <a:cubicBezTo>
                  <a:pt x="18754" y="11911"/>
                  <a:pt x="18902" y="11913"/>
                  <a:pt x="19050" y="11931"/>
                </a:cubicBezTo>
                <a:cubicBezTo>
                  <a:pt x="19226" y="11953"/>
                  <a:pt x="19394" y="11956"/>
                  <a:pt x="19571" y="11956"/>
                </a:cubicBezTo>
                <a:cubicBezTo>
                  <a:pt x="19707" y="11956"/>
                  <a:pt x="19833" y="11977"/>
                  <a:pt x="19968" y="11981"/>
                </a:cubicBezTo>
                <a:cubicBezTo>
                  <a:pt x="20067" y="11984"/>
                  <a:pt x="20166" y="11981"/>
                  <a:pt x="20265" y="11981"/>
                </a:cubicBezTo>
              </a:path>
              <a:path w="7467" h="5731">
                <a:moveTo>
                  <a:pt x="21282" y="8483"/>
                </a:moveTo>
                <a:cubicBezTo>
                  <a:pt x="21348" y="8461"/>
                  <a:pt x="21271" y="8443"/>
                  <a:pt x="21233" y="8458"/>
                </a:cubicBezTo>
                <a:cubicBezTo>
                  <a:pt x="21248" y="8566"/>
                  <a:pt x="21332" y="8562"/>
                  <a:pt x="21406" y="8483"/>
                </a:cubicBezTo>
                <a:cubicBezTo>
                  <a:pt x="21488" y="8395"/>
                  <a:pt x="21310" y="8428"/>
                  <a:pt x="21258" y="8483"/>
                </a:cubicBezTo>
                <a:cubicBezTo>
                  <a:pt x="21159" y="8588"/>
                  <a:pt x="21381" y="8566"/>
                  <a:pt x="21431" y="8508"/>
                </a:cubicBezTo>
                <a:cubicBezTo>
                  <a:pt x="21439" y="8483"/>
                  <a:pt x="21448" y="8459"/>
                  <a:pt x="21456" y="8434"/>
                </a:cubicBezTo>
                <a:cubicBezTo>
                  <a:pt x="21420" y="8439"/>
                  <a:pt x="21126" y="8558"/>
                  <a:pt x="21258" y="8582"/>
                </a:cubicBezTo>
                <a:cubicBezTo>
                  <a:pt x="21323" y="8594"/>
                  <a:pt x="21369" y="8521"/>
                  <a:pt x="21406" y="8483"/>
                </a:cubicBezTo>
              </a:path>
              <a:path w="7467" h="5731">
                <a:moveTo>
                  <a:pt x="21357" y="8483"/>
                </a:moveTo>
                <a:cubicBezTo>
                  <a:pt x="21308" y="8575"/>
                  <a:pt x="21271" y="8668"/>
                  <a:pt x="21233" y="8756"/>
                </a:cubicBezTo>
                <a:cubicBezTo>
                  <a:pt x="21194" y="8846"/>
                  <a:pt x="21135" y="8921"/>
                  <a:pt x="21084" y="9004"/>
                </a:cubicBezTo>
                <a:cubicBezTo>
                  <a:pt x="21031" y="9089"/>
                  <a:pt x="20978" y="9160"/>
                  <a:pt x="20935" y="9252"/>
                </a:cubicBezTo>
                <a:cubicBezTo>
                  <a:pt x="20900" y="9326"/>
                  <a:pt x="20870" y="9401"/>
                  <a:pt x="20836" y="9475"/>
                </a:cubicBezTo>
                <a:cubicBezTo>
                  <a:pt x="20796" y="9562"/>
                  <a:pt x="20756" y="9663"/>
                  <a:pt x="20712" y="9748"/>
                </a:cubicBezTo>
                <a:cubicBezTo>
                  <a:pt x="20664" y="9839"/>
                  <a:pt x="20634" y="9930"/>
                  <a:pt x="20588" y="10021"/>
                </a:cubicBezTo>
                <a:cubicBezTo>
                  <a:pt x="20530" y="10137"/>
                  <a:pt x="20481" y="10256"/>
                  <a:pt x="20414" y="10368"/>
                </a:cubicBezTo>
                <a:cubicBezTo>
                  <a:pt x="20376" y="10431"/>
                  <a:pt x="20319" y="10500"/>
                  <a:pt x="20290" y="10567"/>
                </a:cubicBezTo>
                <a:cubicBezTo>
                  <a:pt x="20256" y="10648"/>
                  <a:pt x="20221" y="10737"/>
                  <a:pt x="20191" y="10815"/>
                </a:cubicBezTo>
                <a:cubicBezTo>
                  <a:pt x="20142" y="10941"/>
                  <a:pt x="20107" y="11060"/>
                  <a:pt x="20067" y="11187"/>
                </a:cubicBezTo>
                <a:cubicBezTo>
                  <a:pt x="20031" y="11302"/>
                  <a:pt x="20018" y="11418"/>
                  <a:pt x="19993" y="11534"/>
                </a:cubicBezTo>
                <a:cubicBezTo>
                  <a:pt x="19977" y="11608"/>
                  <a:pt x="19960" y="11683"/>
                  <a:pt x="19943" y="11757"/>
                </a:cubicBezTo>
                <a:cubicBezTo>
                  <a:pt x="19930" y="11816"/>
                  <a:pt x="19921" y="11870"/>
                  <a:pt x="19918" y="11931"/>
                </a:cubicBezTo>
                <a:cubicBezTo>
                  <a:pt x="19918" y="11939"/>
                  <a:pt x="19918" y="11948"/>
                  <a:pt x="19918" y="11956"/>
                </a:cubicBezTo>
              </a:path>
              <a:path w="7467" h="5731">
                <a:moveTo>
                  <a:pt x="20067" y="11881"/>
                </a:moveTo>
                <a:cubicBezTo>
                  <a:pt x="20069" y="11871"/>
                  <a:pt x="20023" y="11846"/>
                  <a:pt x="20067" y="11782"/>
                </a:cubicBezTo>
                <a:cubicBezTo>
                  <a:pt x="20143" y="11671"/>
                  <a:pt x="20241" y="11575"/>
                  <a:pt x="20315" y="11460"/>
                </a:cubicBezTo>
                <a:cubicBezTo>
                  <a:pt x="20322" y="11450"/>
                  <a:pt x="20328" y="11432"/>
                  <a:pt x="20340" y="11410"/>
                </a:cubicBezTo>
                <a:cubicBezTo>
                  <a:pt x="20319" y="11500"/>
                  <a:pt x="20313" y="11570"/>
                  <a:pt x="20265" y="11658"/>
                </a:cubicBezTo>
                <a:cubicBezTo>
                  <a:pt x="20226" y="11718"/>
                  <a:pt x="20223" y="11730"/>
                  <a:pt x="20191" y="11757"/>
                </a:cubicBezTo>
                <a:cubicBezTo>
                  <a:pt x="20233" y="11676"/>
                  <a:pt x="20298" y="11572"/>
                  <a:pt x="20340" y="11485"/>
                </a:cubicBezTo>
                <a:cubicBezTo>
                  <a:pt x="20402" y="11354"/>
                  <a:pt x="20443" y="11216"/>
                  <a:pt x="20513" y="11088"/>
                </a:cubicBezTo>
                <a:cubicBezTo>
                  <a:pt x="20550" y="11020"/>
                  <a:pt x="20616" y="10951"/>
                  <a:pt x="20662" y="10889"/>
                </a:cubicBezTo>
                <a:cubicBezTo>
                  <a:pt x="20786" y="10723"/>
                  <a:pt x="20850" y="10543"/>
                  <a:pt x="20935" y="10368"/>
                </a:cubicBezTo>
                <a:cubicBezTo>
                  <a:pt x="20975" y="10286"/>
                  <a:pt x="21041" y="10204"/>
                  <a:pt x="21084" y="10120"/>
                </a:cubicBezTo>
                <a:cubicBezTo>
                  <a:pt x="21147" y="9998"/>
                  <a:pt x="21212" y="9877"/>
                  <a:pt x="21258" y="9748"/>
                </a:cubicBezTo>
                <a:cubicBezTo>
                  <a:pt x="21294" y="9645"/>
                  <a:pt x="21350" y="9554"/>
                  <a:pt x="21382" y="9451"/>
                </a:cubicBezTo>
                <a:cubicBezTo>
                  <a:pt x="21417" y="9338"/>
                  <a:pt x="21469" y="9242"/>
                  <a:pt x="21506" y="9128"/>
                </a:cubicBezTo>
                <a:cubicBezTo>
                  <a:pt x="21540" y="9025"/>
                  <a:pt x="21563" y="8934"/>
                  <a:pt x="21580" y="8830"/>
                </a:cubicBezTo>
                <a:cubicBezTo>
                  <a:pt x="21589" y="8773"/>
                  <a:pt x="21609" y="8715"/>
                  <a:pt x="21605" y="8657"/>
                </a:cubicBezTo>
                <a:cubicBezTo>
                  <a:pt x="21600" y="8587"/>
                  <a:pt x="21591" y="8635"/>
                  <a:pt x="21555" y="8582"/>
                </a:cubicBezTo>
                <a:cubicBezTo>
                  <a:pt x="21524" y="8536"/>
                  <a:pt x="21499" y="8512"/>
                  <a:pt x="21431" y="8533"/>
                </a:cubicBezTo>
                <a:cubicBezTo>
                  <a:pt x="21232" y="8594"/>
                  <a:pt x="21417" y="8572"/>
                  <a:pt x="21357" y="8632"/>
                </a:cubicBezTo>
                <a:cubicBezTo>
                  <a:pt x="21457" y="8578"/>
                  <a:pt x="21427" y="8608"/>
                  <a:pt x="21481" y="8508"/>
                </a:cubicBezTo>
                <a:cubicBezTo>
                  <a:pt x="21345" y="8501"/>
                  <a:pt x="21348" y="8519"/>
                  <a:pt x="21233" y="8582"/>
                </a:cubicBezTo>
                <a:cubicBezTo>
                  <a:pt x="21342" y="8601"/>
                  <a:pt x="21320" y="8635"/>
                  <a:pt x="21431" y="8558"/>
                </a:cubicBezTo>
                <a:cubicBezTo>
                  <a:pt x="21368" y="8551"/>
                  <a:pt x="21149" y="8476"/>
                  <a:pt x="21258" y="8706"/>
                </a:cubicBezTo>
                <a:cubicBezTo>
                  <a:pt x="21274" y="8714"/>
                  <a:pt x="21291" y="8723"/>
                  <a:pt x="21307" y="8731"/>
                </a:cubicBezTo>
                <a:cubicBezTo>
                  <a:pt x="21441" y="8700"/>
                  <a:pt x="21567" y="8637"/>
                  <a:pt x="21431" y="8508"/>
                </a:cubicBezTo>
                <a:cubicBezTo>
                  <a:pt x="21305" y="8388"/>
                  <a:pt x="21265" y="8644"/>
                  <a:pt x="21258" y="8682"/>
                </a:cubicBezTo>
                <a:cubicBezTo>
                  <a:pt x="21467" y="8711"/>
                  <a:pt x="21437" y="8659"/>
                  <a:pt x="21530" y="8533"/>
                </a:cubicBezTo>
                <a:cubicBezTo>
                  <a:pt x="21448" y="8527"/>
                  <a:pt x="21280" y="8524"/>
                  <a:pt x="21357" y="8657"/>
                </a:cubicBezTo>
                <a:cubicBezTo>
                  <a:pt x="21429" y="8681"/>
                  <a:pt x="21452" y="8691"/>
                  <a:pt x="21481" y="8632"/>
                </a:cubicBezTo>
              </a:path>
              <a:path w="7467" h="5731">
                <a:moveTo>
                  <a:pt x="14486" y="8483"/>
                </a:moveTo>
                <a:cubicBezTo>
                  <a:pt x="14500" y="8516"/>
                  <a:pt x="14546" y="8616"/>
                  <a:pt x="14560" y="8682"/>
                </a:cubicBezTo>
                <a:cubicBezTo>
                  <a:pt x="14588" y="8810"/>
                  <a:pt x="14639" y="8965"/>
                  <a:pt x="14709" y="9079"/>
                </a:cubicBezTo>
                <a:cubicBezTo>
                  <a:pt x="14751" y="9148"/>
                  <a:pt x="14812" y="9239"/>
                  <a:pt x="14858" y="9302"/>
                </a:cubicBezTo>
                <a:cubicBezTo>
                  <a:pt x="14924" y="9392"/>
                  <a:pt x="15000" y="9476"/>
                  <a:pt x="15056" y="9575"/>
                </a:cubicBezTo>
                <a:cubicBezTo>
                  <a:pt x="15108" y="9668"/>
                  <a:pt x="15166" y="9786"/>
                  <a:pt x="15230" y="9872"/>
                </a:cubicBezTo>
                <a:cubicBezTo>
                  <a:pt x="15334" y="10013"/>
                  <a:pt x="15436" y="10144"/>
                  <a:pt x="15528" y="10294"/>
                </a:cubicBezTo>
                <a:cubicBezTo>
                  <a:pt x="15578" y="10375"/>
                  <a:pt x="15647" y="10413"/>
                  <a:pt x="15701" y="10492"/>
                </a:cubicBezTo>
                <a:cubicBezTo>
                  <a:pt x="15760" y="10579"/>
                  <a:pt x="15811" y="10641"/>
                  <a:pt x="15875" y="10716"/>
                </a:cubicBezTo>
                <a:cubicBezTo>
                  <a:pt x="15945" y="10799"/>
                  <a:pt x="16001" y="10890"/>
                  <a:pt x="16073" y="10964"/>
                </a:cubicBezTo>
                <a:cubicBezTo>
                  <a:pt x="16126" y="11019"/>
                  <a:pt x="16152" y="11072"/>
                  <a:pt x="16197" y="11137"/>
                </a:cubicBezTo>
                <a:cubicBezTo>
                  <a:pt x="16238" y="11197"/>
                  <a:pt x="16288" y="11243"/>
                  <a:pt x="16321" y="11311"/>
                </a:cubicBezTo>
                <a:cubicBezTo>
                  <a:pt x="16344" y="11359"/>
                  <a:pt x="16367" y="11412"/>
                  <a:pt x="16396" y="11460"/>
                </a:cubicBezTo>
                <a:cubicBezTo>
                  <a:pt x="16435" y="11526"/>
                  <a:pt x="16458" y="11595"/>
                  <a:pt x="16495" y="11658"/>
                </a:cubicBezTo>
                <a:cubicBezTo>
                  <a:pt x="16538" y="11733"/>
                  <a:pt x="16550" y="11786"/>
                  <a:pt x="16594" y="11857"/>
                </a:cubicBezTo>
                <a:cubicBezTo>
                  <a:pt x="16614" y="11889"/>
                  <a:pt x="16626" y="11926"/>
                  <a:pt x="16644" y="11956"/>
                </a:cubicBezTo>
                <a:cubicBezTo>
                  <a:pt x="16667" y="11994"/>
                  <a:pt x="16706" y="12037"/>
                  <a:pt x="16718" y="1205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633240"/>
            <a:ext cx="625680" cy="376560"/>
          </a:xfrm>
          <a:custGeom>
            <a:avLst/>
            <a:gdLst/>
            <a:ahLst/>
            <a:rect l="l" t="t" r="r" b="b"/>
            <a:pathLst>
              <a:path w="1737" h="1043">
                <a:moveTo>
                  <a:pt x="19943" y="1860"/>
                </a:moveTo>
                <a:cubicBezTo>
                  <a:pt x="19902" y="1882"/>
                  <a:pt x="19811" y="2168"/>
                  <a:pt x="19794" y="2282"/>
                </a:cubicBezTo>
                <a:cubicBezTo>
                  <a:pt x="19785" y="2344"/>
                  <a:pt x="19788" y="2542"/>
                  <a:pt x="19844" y="2580"/>
                </a:cubicBezTo>
                <a:cubicBezTo>
                  <a:pt x="19852" y="2580"/>
                  <a:pt x="19861" y="2580"/>
                  <a:pt x="19869" y="2580"/>
                </a:cubicBezTo>
              </a:path>
              <a:path w="1737" h="1043">
                <a:moveTo>
                  <a:pt x="20687" y="2480"/>
                </a:moveTo>
                <a:cubicBezTo>
                  <a:pt x="20680" y="2555"/>
                  <a:pt x="20692" y="2718"/>
                  <a:pt x="20638" y="2778"/>
                </a:cubicBezTo>
                <a:cubicBezTo>
                  <a:pt x="20630" y="2778"/>
                  <a:pt x="20621" y="2778"/>
                  <a:pt x="20613" y="2778"/>
                </a:cubicBezTo>
              </a:path>
              <a:path w="1737" h="1043">
                <a:moveTo>
                  <a:pt x="21307" y="1761"/>
                </a:moveTo>
                <a:cubicBezTo>
                  <a:pt x="21484" y="1974"/>
                  <a:pt x="21572" y="2236"/>
                  <a:pt x="21506" y="2530"/>
                </a:cubicBezTo>
                <a:cubicBezTo>
                  <a:pt x="21435" y="2695"/>
                  <a:pt x="21418" y="2746"/>
                  <a:pt x="21307" y="2803"/>
                </a:cubicBezTo>
              </a:path>
              <a:path w="1737" h="1043">
                <a:moveTo>
                  <a:pt x="20265" y="1885"/>
                </a:moveTo>
                <a:cubicBezTo>
                  <a:pt x="20247" y="2031"/>
                  <a:pt x="20190" y="2167"/>
                  <a:pt x="20166" y="2307"/>
                </a:cubicBezTo>
                <a:cubicBezTo>
                  <a:pt x="20146" y="2425"/>
                  <a:pt x="20210" y="2516"/>
                  <a:pt x="20340" y="2480"/>
                </a:cubicBezTo>
                <a:cubicBezTo>
                  <a:pt x="20456" y="2448"/>
                  <a:pt x="20551" y="2336"/>
                  <a:pt x="20513" y="2208"/>
                </a:cubicBezTo>
                <a:cubicBezTo>
                  <a:pt x="20505" y="2208"/>
                  <a:pt x="20497" y="2208"/>
                  <a:pt x="20489" y="2208"/>
                </a:cubicBezTo>
                <a:cubicBezTo>
                  <a:pt x="20326" y="2177"/>
                  <a:pt x="20198" y="2238"/>
                  <a:pt x="20191" y="2456"/>
                </a:cubicBezTo>
                <a:cubicBezTo>
                  <a:pt x="20188" y="2549"/>
                  <a:pt x="20240" y="2516"/>
                  <a:pt x="20290" y="2505"/>
                </a:cubicBezTo>
              </a:path>
              <a:path w="1737" h="1043">
                <a:moveTo>
                  <a:pt x="20960" y="1910"/>
                </a:moveTo>
                <a:cubicBezTo>
                  <a:pt x="20909" y="2000"/>
                  <a:pt x="20897" y="2109"/>
                  <a:pt x="20861" y="2208"/>
                </a:cubicBezTo>
                <a:cubicBezTo>
                  <a:pt x="20964" y="2193"/>
                  <a:pt x="21068" y="2164"/>
                  <a:pt x="21158" y="2108"/>
                </a:cubicBezTo>
                <a:cubicBezTo>
                  <a:pt x="21166" y="2100"/>
                  <a:pt x="21175" y="2092"/>
                  <a:pt x="21183" y="2084"/>
                </a:cubicBezTo>
              </a:path>
              <a:path w="1737" h="1043">
                <a:moveTo>
                  <a:pt x="21208" y="1761"/>
                </a:moveTo>
                <a:cubicBezTo>
                  <a:pt x="21208" y="2026"/>
                  <a:pt x="21208" y="2290"/>
                  <a:pt x="21208" y="255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37160" y="517680"/>
            <a:ext cx="696960" cy="536400"/>
          </a:xfrm>
          <a:custGeom>
            <a:avLst/>
            <a:gdLst/>
            <a:ahLst/>
            <a:rect l="l" t="t" r="r" b="b"/>
            <a:pathLst>
              <a:path w="1936" h="1489">
                <a:moveTo>
                  <a:pt x="15627" y="1439"/>
                </a:moveTo>
                <a:cubicBezTo>
                  <a:pt x="15488" y="1598"/>
                  <a:pt x="15391" y="1904"/>
                  <a:pt x="15379" y="2133"/>
                </a:cubicBezTo>
                <a:cubicBezTo>
                  <a:pt x="15370" y="2308"/>
                  <a:pt x="15451" y="2387"/>
                  <a:pt x="15553" y="2505"/>
                </a:cubicBezTo>
              </a:path>
              <a:path w="1936" h="1489">
                <a:moveTo>
                  <a:pt x="16346" y="2332"/>
                </a:moveTo>
                <a:cubicBezTo>
                  <a:pt x="16346" y="2466"/>
                  <a:pt x="16351" y="2648"/>
                  <a:pt x="16247" y="2753"/>
                </a:cubicBezTo>
                <a:cubicBezTo>
                  <a:pt x="16247" y="2737"/>
                  <a:pt x="16247" y="2720"/>
                  <a:pt x="16247" y="2704"/>
                </a:cubicBezTo>
              </a:path>
              <a:path w="1936" h="1489">
                <a:moveTo>
                  <a:pt x="17090" y="1488"/>
                </a:moveTo>
                <a:cubicBezTo>
                  <a:pt x="17220" y="1682"/>
                  <a:pt x="17337" y="1941"/>
                  <a:pt x="17314" y="2183"/>
                </a:cubicBezTo>
                <a:cubicBezTo>
                  <a:pt x="17295" y="2388"/>
                  <a:pt x="17163" y="2534"/>
                  <a:pt x="17041" y="2679"/>
                </a:cubicBezTo>
              </a:path>
              <a:path w="1936" h="1489">
                <a:moveTo>
                  <a:pt x="15577" y="1885"/>
                </a:moveTo>
                <a:cubicBezTo>
                  <a:pt x="15580" y="1872"/>
                  <a:pt x="15594" y="1767"/>
                  <a:pt x="15602" y="1761"/>
                </a:cubicBezTo>
                <a:cubicBezTo>
                  <a:pt x="15650" y="1723"/>
                  <a:pt x="15755" y="1662"/>
                  <a:pt x="15825" y="1662"/>
                </a:cubicBezTo>
                <a:cubicBezTo>
                  <a:pt x="15998" y="1662"/>
                  <a:pt x="15901" y="1881"/>
                  <a:pt x="15850" y="1935"/>
                </a:cubicBezTo>
                <a:cubicBezTo>
                  <a:pt x="15802" y="1959"/>
                  <a:pt x="15788" y="1968"/>
                  <a:pt x="15751" y="1960"/>
                </a:cubicBezTo>
                <a:cubicBezTo>
                  <a:pt x="15772" y="1832"/>
                  <a:pt x="15914" y="2000"/>
                  <a:pt x="15925" y="2059"/>
                </a:cubicBezTo>
                <a:cubicBezTo>
                  <a:pt x="15952" y="2210"/>
                  <a:pt x="15803" y="2385"/>
                  <a:pt x="15652" y="2356"/>
                </a:cubicBezTo>
                <a:cubicBezTo>
                  <a:pt x="15562" y="2312"/>
                  <a:pt x="15533" y="2305"/>
                  <a:pt x="15528" y="2232"/>
                </a:cubicBezTo>
              </a:path>
              <a:path w="1936" h="1489">
                <a:moveTo>
                  <a:pt x="16371" y="1761"/>
                </a:moveTo>
                <a:cubicBezTo>
                  <a:pt x="16395" y="1833"/>
                  <a:pt x="16440" y="1880"/>
                  <a:pt x="16446" y="1960"/>
                </a:cubicBezTo>
                <a:cubicBezTo>
                  <a:pt x="16446" y="1968"/>
                  <a:pt x="16446" y="1976"/>
                  <a:pt x="16446" y="1984"/>
                </a:cubicBezTo>
                <a:cubicBezTo>
                  <a:pt x="16543" y="1968"/>
                  <a:pt x="16616" y="1925"/>
                  <a:pt x="16718" y="1910"/>
                </a:cubicBezTo>
              </a:path>
              <a:path w="1936" h="1489">
                <a:moveTo>
                  <a:pt x="16594" y="1588"/>
                </a:moveTo>
                <a:cubicBezTo>
                  <a:pt x="16594" y="1745"/>
                  <a:pt x="16623" y="1903"/>
                  <a:pt x="16644" y="2059"/>
                </a:cubicBezTo>
                <a:cubicBezTo>
                  <a:pt x="16660" y="2174"/>
                  <a:pt x="16587" y="2489"/>
                  <a:pt x="16669" y="2406"/>
                </a:cubicBezTo>
                <a:cubicBezTo>
                  <a:pt x="16677" y="2389"/>
                  <a:pt x="16686" y="2373"/>
                  <a:pt x="16694" y="2356"/>
                </a:cubicBezTo>
              </a:path>
              <a:path w="1936" h="1489">
                <a:moveTo>
                  <a:pt x="16768" y="2877"/>
                </a:moveTo>
                <a:cubicBezTo>
                  <a:pt x="16789" y="2804"/>
                  <a:pt x="16764" y="2770"/>
                  <a:pt x="16718" y="2853"/>
                </a:cubicBezTo>
                <a:cubicBezTo>
                  <a:pt x="16697" y="2896"/>
                  <a:pt x="16684" y="2908"/>
                  <a:pt x="16718" y="2927"/>
                </a:cubicBezTo>
                <a:cubicBezTo>
                  <a:pt x="16771" y="2803"/>
                  <a:pt x="16669" y="2868"/>
                  <a:pt x="16669" y="2877"/>
                </a:cubicBezTo>
                <a:cubicBezTo>
                  <a:pt x="16677" y="2885"/>
                  <a:pt x="16686" y="2894"/>
                  <a:pt x="16694" y="2902"/>
                </a:cubicBezTo>
                <a:cubicBezTo>
                  <a:pt x="16729" y="2860"/>
                  <a:pt x="16812" y="2757"/>
                  <a:pt x="16718" y="28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28800" y="401760"/>
            <a:ext cx="330120" cy="1714320"/>
          </a:xfrm>
          <a:custGeom>
            <a:avLst/>
            <a:gdLst/>
            <a:ahLst/>
            <a:rect l="l" t="t" r="r" b="b"/>
            <a:pathLst>
              <a:path w="918" h="4764">
                <a:moveTo>
                  <a:pt x="2679" y="1141"/>
                </a:moveTo>
                <a:cubicBezTo>
                  <a:pt x="2704" y="1141"/>
                  <a:pt x="2712" y="1141"/>
                  <a:pt x="2704" y="1116"/>
                </a:cubicBezTo>
                <a:cubicBezTo>
                  <a:pt x="2704" y="1218"/>
                  <a:pt x="2662" y="1313"/>
                  <a:pt x="2654" y="1414"/>
                </a:cubicBezTo>
                <a:cubicBezTo>
                  <a:pt x="2642" y="1566"/>
                  <a:pt x="2685" y="1679"/>
                  <a:pt x="2729" y="1811"/>
                </a:cubicBezTo>
                <a:cubicBezTo>
                  <a:pt x="2743" y="1853"/>
                  <a:pt x="2793" y="1863"/>
                  <a:pt x="2803" y="1910"/>
                </a:cubicBezTo>
                <a:cubicBezTo>
                  <a:pt x="2812" y="1952"/>
                  <a:pt x="2810" y="1990"/>
                  <a:pt x="2828" y="1935"/>
                </a:cubicBezTo>
              </a:path>
              <a:path w="918" h="4764">
                <a:moveTo>
                  <a:pt x="3001" y="1339"/>
                </a:moveTo>
                <a:cubicBezTo>
                  <a:pt x="2934" y="1339"/>
                  <a:pt x="3065" y="1319"/>
                  <a:pt x="3076" y="1315"/>
                </a:cubicBezTo>
                <a:cubicBezTo>
                  <a:pt x="3092" y="1424"/>
                  <a:pt x="3099" y="1497"/>
                  <a:pt x="3026" y="1588"/>
                </a:cubicBezTo>
                <a:cubicBezTo>
                  <a:pt x="3155" y="1588"/>
                  <a:pt x="3208" y="1620"/>
                  <a:pt x="3200" y="1761"/>
                </a:cubicBezTo>
                <a:cubicBezTo>
                  <a:pt x="3190" y="1935"/>
                  <a:pt x="3057" y="1949"/>
                  <a:pt x="2927" y="1910"/>
                </a:cubicBezTo>
              </a:path>
              <a:path w="918" h="4764">
                <a:moveTo>
                  <a:pt x="3349" y="1960"/>
                </a:moveTo>
                <a:cubicBezTo>
                  <a:pt x="3349" y="2096"/>
                  <a:pt x="3377" y="2204"/>
                  <a:pt x="3299" y="2307"/>
                </a:cubicBezTo>
              </a:path>
              <a:path w="918" h="4764">
                <a:moveTo>
                  <a:pt x="2753" y="2431"/>
                </a:moveTo>
                <a:cubicBezTo>
                  <a:pt x="2592" y="2650"/>
                  <a:pt x="2569" y="2899"/>
                  <a:pt x="2580" y="3175"/>
                </a:cubicBezTo>
                <a:cubicBezTo>
                  <a:pt x="2599" y="3292"/>
                  <a:pt x="2592" y="3314"/>
                  <a:pt x="2629" y="3373"/>
                </a:cubicBezTo>
              </a:path>
              <a:path w="918" h="4764">
                <a:moveTo>
                  <a:pt x="2902" y="2753"/>
                </a:moveTo>
                <a:cubicBezTo>
                  <a:pt x="2884" y="2879"/>
                  <a:pt x="2825" y="3023"/>
                  <a:pt x="2828" y="3150"/>
                </a:cubicBezTo>
                <a:cubicBezTo>
                  <a:pt x="2831" y="3256"/>
                  <a:pt x="2874" y="3373"/>
                  <a:pt x="3001" y="3324"/>
                </a:cubicBezTo>
                <a:cubicBezTo>
                  <a:pt x="3114" y="3280"/>
                  <a:pt x="3146" y="3170"/>
                  <a:pt x="3101" y="3076"/>
                </a:cubicBezTo>
                <a:cubicBezTo>
                  <a:pt x="3035" y="3117"/>
                  <a:pt x="2931" y="3178"/>
                  <a:pt x="2952" y="3274"/>
                </a:cubicBezTo>
                <a:cubicBezTo>
                  <a:pt x="2982" y="3304"/>
                  <a:pt x="2996" y="3315"/>
                  <a:pt x="3026" y="3324"/>
                </a:cubicBezTo>
              </a:path>
              <a:path w="918" h="4764">
                <a:moveTo>
                  <a:pt x="3373" y="3324"/>
                </a:moveTo>
                <a:cubicBezTo>
                  <a:pt x="3373" y="3415"/>
                  <a:pt x="3373" y="3506"/>
                  <a:pt x="3373" y="3597"/>
                </a:cubicBezTo>
              </a:path>
              <a:path w="918" h="4764">
                <a:moveTo>
                  <a:pt x="2729" y="3646"/>
                </a:moveTo>
                <a:cubicBezTo>
                  <a:pt x="2676" y="3717"/>
                  <a:pt x="2652" y="4017"/>
                  <a:pt x="2654" y="4142"/>
                </a:cubicBezTo>
                <a:cubicBezTo>
                  <a:pt x="2656" y="4270"/>
                  <a:pt x="2663" y="4366"/>
                  <a:pt x="2778" y="4316"/>
                </a:cubicBezTo>
              </a:path>
              <a:path w="918" h="4764">
                <a:moveTo>
                  <a:pt x="2952" y="3845"/>
                </a:moveTo>
                <a:cubicBezTo>
                  <a:pt x="3035" y="3829"/>
                  <a:pt x="3090" y="3820"/>
                  <a:pt x="3175" y="3820"/>
                </a:cubicBezTo>
                <a:cubicBezTo>
                  <a:pt x="3175" y="3968"/>
                  <a:pt x="3128" y="4097"/>
                  <a:pt x="3101" y="4242"/>
                </a:cubicBezTo>
                <a:cubicBezTo>
                  <a:pt x="3101" y="4250"/>
                  <a:pt x="3101" y="4258"/>
                  <a:pt x="3101" y="4266"/>
                </a:cubicBezTo>
              </a:path>
              <a:path w="918" h="4764">
                <a:moveTo>
                  <a:pt x="3497" y="4291"/>
                </a:moveTo>
                <a:cubicBezTo>
                  <a:pt x="3497" y="4447"/>
                  <a:pt x="3516" y="4460"/>
                  <a:pt x="3423" y="4564"/>
                </a:cubicBezTo>
              </a:path>
              <a:path w="918" h="4764">
                <a:moveTo>
                  <a:pt x="2828" y="4738"/>
                </a:moveTo>
                <a:cubicBezTo>
                  <a:pt x="2700" y="4939"/>
                  <a:pt x="2594" y="5205"/>
                  <a:pt x="2679" y="5457"/>
                </a:cubicBezTo>
                <a:cubicBezTo>
                  <a:pt x="2724" y="5590"/>
                  <a:pt x="2762" y="5574"/>
                  <a:pt x="2853" y="5556"/>
                </a:cubicBezTo>
              </a:path>
              <a:path w="918" h="4764">
                <a:moveTo>
                  <a:pt x="3051" y="4961"/>
                </a:moveTo>
                <a:cubicBezTo>
                  <a:pt x="3041" y="5111"/>
                  <a:pt x="3026" y="5255"/>
                  <a:pt x="3026" y="5407"/>
                </a:cubicBezTo>
                <a:cubicBezTo>
                  <a:pt x="3026" y="5432"/>
                  <a:pt x="3026" y="5440"/>
                  <a:pt x="3051" y="5432"/>
                </a:cubicBezTo>
              </a:path>
              <a:path w="918" h="4764">
                <a:moveTo>
                  <a:pt x="3349" y="5432"/>
                </a:moveTo>
                <a:cubicBezTo>
                  <a:pt x="3360" y="5628"/>
                  <a:pt x="3375" y="5708"/>
                  <a:pt x="3274" y="587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28800" y="2840040"/>
            <a:ext cx="598320" cy="1562040"/>
          </a:xfrm>
          <a:custGeom>
            <a:avLst/>
            <a:gdLst/>
            <a:ahLst/>
            <a:rect l="l" t="t" r="r" b="b"/>
            <a:pathLst>
              <a:path w="1663" h="4342">
                <a:moveTo>
                  <a:pt x="2803" y="7888"/>
                </a:moveTo>
                <a:cubicBezTo>
                  <a:pt x="2759" y="8128"/>
                  <a:pt x="2693" y="8383"/>
                  <a:pt x="2729" y="8632"/>
                </a:cubicBezTo>
                <a:cubicBezTo>
                  <a:pt x="2753" y="8797"/>
                  <a:pt x="2780" y="8687"/>
                  <a:pt x="2803" y="8756"/>
                </a:cubicBezTo>
              </a:path>
              <a:path w="1663" h="4342">
                <a:moveTo>
                  <a:pt x="2902" y="8384"/>
                </a:moveTo>
                <a:cubicBezTo>
                  <a:pt x="2964" y="8400"/>
                  <a:pt x="2971" y="8409"/>
                  <a:pt x="3051" y="8409"/>
                </a:cubicBezTo>
              </a:path>
              <a:path w="1663" h="4342">
                <a:moveTo>
                  <a:pt x="3175" y="8186"/>
                </a:moveTo>
                <a:cubicBezTo>
                  <a:pt x="3190" y="8128"/>
                  <a:pt x="3227" y="8092"/>
                  <a:pt x="3299" y="8111"/>
                </a:cubicBezTo>
                <a:cubicBezTo>
                  <a:pt x="3413" y="8142"/>
                  <a:pt x="3300" y="8286"/>
                  <a:pt x="3274" y="8334"/>
                </a:cubicBezTo>
                <a:cubicBezTo>
                  <a:pt x="3261" y="8334"/>
                  <a:pt x="3344" y="8354"/>
                  <a:pt x="3324" y="8458"/>
                </a:cubicBezTo>
                <a:cubicBezTo>
                  <a:pt x="3301" y="8580"/>
                  <a:pt x="3228" y="8582"/>
                  <a:pt x="3125" y="8582"/>
                </a:cubicBezTo>
                <a:cubicBezTo>
                  <a:pt x="3117" y="8582"/>
                  <a:pt x="3109" y="8582"/>
                  <a:pt x="3101" y="8582"/>
                </a:cubicBezTo>
              </a:path>
              <a:path w="1663" h="4342">
                <a:moveTo>
                  <a:pt x="3572" y="8533"/>
                </a:moveTo>
                <a:cubicBezTo>
                  <a:pt x="3556" y="8596"/>
                  <a:pt x="3485" y="8759"/>
                  <a:pt x="3522" y="8706"/>
                </a:cubicBezTo>
                <a:cubicBezTo>
                  <a:pt x="3530" y="8690"/>
                  <a:pt x="3539" y="8673"/>
                  <a:pt x="3547" y="8657"/>
                </a:cubicBezTo>
              </a:path>
              <a:path w="1663" h="4342">
                <a:moveTo>
                  <a:pt x="3795" y="8161"/>
                </a:moveTo>
                <a:cubicBezTo>
                  <a:pt x="3764" y="8231"/>
                  <a:pt x="3746" y="8283"/>
                  <a:pt x="3746" y="8359"/>
                </a:cubicBezTo>
                <a:cubicBezTo>
                  <a:pt x="3795" y="8359"/>
                  <a:pt x="3845" y="8359"/>
                  <a:pt x="3894" y="8359"/>
                </a:cubicBezTo>
              </a:path>
              <a:path w="1663" h="4342">
                <a:moveTo>
                  <a:pt x="3919" y="8161"/>
                </a:moveTo>
                <a:cubicBezTo>
                  <a:pt x="3901" y="8267"/>
                  <a:pt x="3864" y="8400"/>
                  <a:pt x="3894" y="8508"/>
                </a:cubicBezTo>
                <a:cubicBezTo>
                  <a:pt x="3919" y="8508"/>
                  <a:pt x="3927" y="8508"/>
                  <a:pt x="3919" y="8533"/>
                </a:cubicBezTo>
              </a:path>
              <a:path w="1663" h="4342">
                <a:moveTo>
                  <a:pt x="4142" y="8161"/>
                </a:moveTo>
                <a:cubicBezTo>
                  <a:pt x="4155" y="8353"/>
                  <a:pt x="4211" y="8522"/>
                  <a:pt x="4018" y="8607"/>
                </a:cubicBezTo>
              </a:path>
              <a:path w="1663" h="4342">
                <a:moveTo>
                  <a:pt x="2927" y="9103"/>
                </a:moveTo>
                <a:cubicBezTo>
                  <a:pt x="2891" y="8998"/>
                  <a:pt x="2766" y="9198"/>
                  <a:pt x="2729" y="9302"/>
                </a:cubicBezTo>
                <a:cubicBezTo>
                  <a:pt x="2688" y="9416"/>
                  <a:pt x="2700" y="9597"/>
                  <a:pt x="2729" y="9674"/>
                </a:cubicBezTo>
                <a:cubicBezTo>
                  <a:pt x="2729" y="9699"/>
                  <a:pt x="2729" y="9707"/>
                  <a:pt x="2753" y="9699"/>
                </a:cubicBezTo>
              </a:path>
              <a:path w="1663" h="4342">
                <a:moveTo>
                  <a:pt x="2902" y="9475"/>
                </a:moveTo>
                <a:cubicBezTo>
                  <a:pt x="2968" y="9475"/>
                  <a:pt x="3035" y="9475"/>
                  <a:pt x="3101" y="9475"/>
                </a:cubicBezTo>
              </a:path>
              <a:path w="1663" h="4342">
                <a:moveTo>
                  <a:pt x="3249" y="9277"/>
                </a:moveTo>
                <a:cubicBezTo>
                  <a:pt x="3191" y="9372"/>
                  <a:pt x="3101" y="9530"/>
                  <a:pt x="3101" y="9649"/>
                </a:cubicBezTo>
                <a:cubicBezTo>
                  <a:pt x="3120" y="9706"/>
                  <a:pt x="3128" y="9713"/>
                  <a:pt x="3125" y="9748"/>
                </a:cubicBezTo>
                <a:cubicBezTo>
                  <a:pt x="3261" y="9737"/>
                  <a:pt x="3361" y="9716"/>
                  <a:pt x="3423" y="9575"/>
                </a:cubicBezTo>
                <a:cubicBezTo>
                  <a:pt x="3442" y="9500"/>
                  <a:pt x="3476" y="9467"/>
                  <a:pt x="3423" y="9475"/>
                </a:cubicBezTo>
                <a:cubicBezTo>
                  <a:pt x="3341" y="9475"/>
                  <a:pt x="3277" y="9509"/>
                  <a:pt x="3249" y="9599"/>
                </a:cubicBezTo>
                <a:cubicBezTo>
                  <a:pt x="3241" y="9625"/>
                  <a:pt x="3249" y="9689"/>
                  <a:pt x="3249" y="9723"/>
                </a:cubicBezTo>
              </a:path>
              <a:path w="1663" h="4342">
                <a:moveTo>
                  <a:pt x="3572" y="9550"/>
                </a:moveTo>
                <a:cubicBezTo>
                  <a:pt x="3572" y="9639"/>
                  <a:pt x="3574" y="9693"/>
                  <a:pt x="3547" y="9773"/>
                </a:cubicBezTo>
              </a:path>
              <a:path w="1663" h="4342">
                <a:moveTo>
                  <a:pt x="3820" y="9277"/>
                </a:moveTo>
                <a:cubicBezTo>
                  <a:pt x="3809" y="9344"/>
                  <a:pt x="3781" y="9408"/>
                  <a:pt x="3770" y="9475"/>
                </a:cubicBezTo>
                <a:cubicBezTo>
                  <a:pt x="3851" y="9462"/>
                  <a:pt x="3889" y="9468"/>
                  <a:pt x="3969" y="9475"/>
                </a:cubicBezTo>
                <a:cubicBezTo>
                  <a:pt x="3977" y="9475"/>
                  <a:pt x="3986" y="9475"/>
                  <a:pt x="3994" y="9475"/>
                </a:cubicBezTo>
              </a:path>
              <a:path w="1663" h="4342">
                <a:moveTo>
                  <a:pt x="3994" y="9302"/>
                </a:moveTo>
                <a:cubicBezTo>
                  <a:pt x="3966" y="9348"/>
                  <a:pt x="3948" y="9511"/>
                  <a:pt x="3944" y="9599"/>
                </a:cubicBezTo>
                <a:cubicBezTo>
                  <a:pt x="3944" y="9616"/>
                  <a:pt x="3944" y="9632"/>
                  <a:pt x="3944" y="9649"/>
                </a:cubicBezTo>
              </a:path>
              <a:path w="1663" h="4342">
                <a:moveTo>
                  <a:pt x="4068" y="9054"/>
                </a:moveTo>
                <a:cubicBezTo>
                  <a:pt x="4213" y="9266"/>
                  <a:pt x="4337" y="9424"/>
                  <a:pt x="4142" y="9649"/>
                </a:cubicBezTo>
                <a:cubicBezTo>
                  <a:pt x="4109" y="9674"/>
                  <a:pt x="4076" y="9698"/>
                  <a:pt x="4043" y="9723"/>
                </a:cubicBezTo>
              </a:path>
              <a:path w="1663" h="4342">
                <a:moveTo>
                  <a:pt x="2729" y="10145"/>
                </a:moveTo>
                <a:cubicBezTo>
                  <a:pt x="2605" y="10284"/>
                  <a:pt x="2570" y="10494"/>
                  <a:pt x="2580" y="10691"/>
                </a:cubicBezTo>
                <a:cubicBezTo>
                  <a:pt x="2588" y="10859"/>
                  <a:pt x="2617" y="10844"/>
                  <a:pt x="2729" y="10939"/>
                </a:cubicBezTo>
              </a:path>
              <a:path w="1663" h="4342">
                <a:moveTo>
                  <a:pt x="2853" y="10616"/>
                </a:moveTo>
                <a:cubicBezTo>
                  <a:pt x="2894" y="10644"/>
                  <a:pt x="2926" y="10658"/>
                  <a:pt x="2977" y="10666"/>
                </a:cubicBezTo>
              </a:path>
              <a:path w="1663" h="4342">
                <a:moveTo>
                  <a:pt x="3076" y="10418"/>
                </a:moveTo>
                <a:cubicBezTo>
                  <a:pt x="3170" y="10405"/>
                  <a:pt x="3253" y="10393"/>
                  <a:pt x="3349" y="10393"/>
                </a:cubicBezTo>
                <a:cubicBezTo>
                  <a:pt x="3357" y="10393"/>
                  <a:pt x="3365" y="10393"/>
                  <a:pt x="3373" y="10393"/>
                </a:cubicBezTo>
                <a:cubicBezTo>
                  <a:pt x="3360" y="10551"/>
                  <a:pt x="3311" y="10687"/>
                  <a:pt x="3274" y="10840"/>
                </a:cubicBezTo>
                <a:cubicBezTo>
                  <a:pt x="3274" y="10848"/>
                  <a:pt x="3274" y="10856"/>
                  <a:pt x="3274" y="10864"/>
                </a:cubicBezTo>
              </a:path>
              <a:path w="1663" h="4342">
                <a:moveTo>
                  <a:pt x="3597" y="10716"/>
                </a:moveTo>
                <a:cubicBezTo>
                  <a:pt x="3597" y="10783"/>
                  <a:pt x="3597" y="10856"/>
                  <a:pt x="3572" y="10889"/>
                </a:cubicBezTo>
              </a:path>
              <a:path w="1663" h="4342">
                <a:moveTo>
                  <a:pt x="3870" y="10344"/>
                </a:moveTo>
                <a:cubicBezTo>
                  <a:pt x="3870" y="10478"/>
                  <a:pt x="3850" y="10606"/>
                  <a:pt x="3845" y="10740"/>
                </a:cubicBezTo>
                <a:cubicBezTo>
                  <a:pt x="3845" y="10748"/>
                  <a:pt x="3845" y="10757"/>
                  <a:pt x="3845" y="10765"/>
                </a:cubicBezTo>
              </a:path>
              <a:path w="1663" h="4342">
                <a:moveTo>
                  <a:pt x="3969" y="10170"/>
                </a:moveTo>
                <a:cubicBezTo>
                  <a:pt x="4123" y="10372"/>
                  <a:pt x="4226" y="10583"/>
                  <a:pt x="4093" y="10840"/>
                </a:cubicBezTo>
                <a:cubicBezTo>
                  <a:pt x="4060" y="10873"/>
                  <a:pt x="4027" y="10906"/>
                  <a:pt x="3994" y="10939"/>
                </a:cubicBezTo>
              </a:path>
              <a:path w="1663" h="4342">
                <a:moveTo>
                  <a:pt x="2704" y="11286"/>
                </a:moveTo>
                <a:cubicBezTo>
                  <a:pt x="2651" y="11549"/>
                  <a:pt x="2571" y="11812"/>
                  <a:pt x="2629" y="12080"/>
                </a:cubicBezTo>
                <a:cubicBezTo>
                  <a:pt x="2669" y="12180"/>
                  <a:pt x="2663" y="12210"/>
                  <a:pt x="2729" y="12229"/>
                </a:cubicBezTo>
              </a:path>
              <a:path w="1663" h="4342">
                <a:moveTo>
                  <a:pt x="2853" y="11757"/>
                </a:moveTo>
                <a:cubicBezTo>
                  <a:pt x="2913" y="11767"/>
                  <a:pt x="2964" y="11782"/>
                  <a:pt x="3026" y="11782"/>
                </a:cubicBezTo>
              </a:path>
              <a:path w="1663" h="4342">
                <a:moveTo>
                  <a:pt x="3200" y="11410"/>
                </a:moveTo>
                <a:cubicBezTo>
                  <a:pt x="3219" y="11560"/>
                  <a:pt x="3245" y="11704"/>
                  <a:pt x="3249" y="11857"/>
                </a:cubicBezTo>
                <a:cubicBezTo>
                  <a:pt x="3249" y="11882"/>
                  <a:pt x="3249" y="11906"/>
                  <a:pt x="3249" y="11931"/>
                </a:cubicBezTo>
              </a:path>
              <a:path w="1663" h="4342">
                <a:moveTo>
                  <a:pt x="3448" y="11906"/>
                </a:moveTo>
                <a:cubicBezTo>
                  <a:pt x="3448" y="11998"/>
                  <a:pt x="3463" y="12039"/>
                  <a:pt x="3423" y="12105"/>
                </a:cubicBezTo>
              </a:path>
              <a:path w="1663" h="4342">
                <a:moveTo>
                  <a:pt x="3721" y="11559"/>
                </a:moveTo>
                <a:cubicBezTo>
                  <a:pt x="3721" y="11700"/>
                  <a:pt x="3721" y="11840"/>
                  <a:pt x="3721" y="11981"/>
                </a:cubicBezTo>
              </a:path>
              <a:path w="1663" h="4342">
                <a:moveTo>
                  <a:pt x="3845" y="11311"/>
                </a:moveTo>
                <a:cubicBezTo>
                  <a:pt x="4009" y="11530"/>
                  <a:pt x="4128" y="11777"/>
                  <a:pt x="3919" y="12030"/>
                </a:cubicBezTo>
                <a:cubicBezTo>
                  <a:pt x="3869" y="12063"/>
                  <a:pt x="3820" y="12096"/>
                  <a:pt x="3770" y="1212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347760"/>
            <a:ext cx="339840" cy="1768320"/>
          </a:xfrm>
          <a:custGeom>
            <a:avLst/>
            <a:gdLst/>
            <a:ahLst/>
            <a:rect l="l" t="t" r="r" b="b"/>
            <a:pathLst>
              <a:path w="944" h="4913">
                <a:moveTo>
                  <a:pt x="3423" y="1513"/>
                </a:moveTo>
                <a:cubicBezTo>
                  <a:pt x="3361" y="1513"/>
                  <a:pt x="3524" y="1513"/>
                  <a:pt x="3547" y="1513"/>
                </a:cubicBezTo>
                <a:cubicBezTo>
                  <a:pt x="3555" y="1513"/>
                  <a:pt x="3564" y="1513"/>
                  <a:pt x="3572" y="1513"/>
                </a:cubicBezTo>
              </a:path>
              <a:path w="944" h="4913">
                <a:moveTo>
                  <a:pt x="3696" y="1364"/>
                </a:moveTo>
                <a:cubicBezTo>
                  <a:pt x="3683" y="1441"/>
                  <a:pt x="3671" y="1507"/>
                  <a:pt x="3671" y="1588"/>
                </a:cubicBezTo>
                <a:cubicBezTo>
                  <a:pt x="3671" y="1596"/>
                  <a:pt x="3671" y="1604"/>
                  <a:pt x="3671" y="1612"/>
                </a:cubicBezTo>
                <a:cubicBezTo>
                  <a:pt x="3749" y="1612"/>
                  <a:pt x="3804" y="1604"/>
                  <a:pt x="3870" y="1588"/>
                </a:cubicBezTo>
              </a:path>
              <a:path w="944" h="4913">
                <a:moveTo>
                  <a:pt x="3894" y="1265"/>
                </a:moveTo>
                <a:cubicBezTo>
                  <a:pt x="3873" y="1456"/>
                  <a:pt x="3870" y="1643"/>
                  <a:pt x="3870" y="1836"/>
                </a:cubicBezTo>
                <a:cubicBezTo>
                  <a:pt x="3870" y="1910"/>
                  <a:pt x="3870" y="1919"/>
                  <a:pt x="3870" y="1960"/>
                </a:cubicBezTo>
              </a:path>
              <a:path w="944" h="4913">
                <a:moveTo>
                  <a:pt x="3969" y="967"/>
                </a:moveTo>
                <a:cubicBezTo>
                  <a:pt x="4119" y="1193"/>
                  <a:pt x="4214" y="1349"/>
                  <a:pt x="4217" y="1637"/>
                </a:cubicBezTo>
                <a:cubicBezTo>
                  <a:pt x="4219" y="1848"/>
                  <a:pt x="4174" y="2057"/>
                  <a:pt x="3969" y="2108"/>
                </a:cubicBezTo>
              </a:path>
              <a:path w="944" h="4913">
                <a:moveTo>
                  <a:pt x="3473" y="3001"/>
                </a:moveTo>
                <a:cubicBezTo>
                  <a:pt x="3514" y="3001"/>
                  <a:pt x="3556" y="3001"/>
                  <a:pt x="3597" y="3001"/>
                </a:cubicBezTo>
              </a:path>
              <a:path w="944" h="4913">
                <a:moveTo>
                  <a:pt x="3795" y="2753"/>
                </a:moveTo>
                <a:cubicBezTo>
                  <a:pt x="3795" y="2837"/>
                  <a:pt x="3744" y="3051"/>
                  <a:pt x="3870" y="3051"/>
                </a:cubicBezTo>
                <a:cubicBezTo>
                  <a:pt x="3972" y="3051"/>
                  <a:pt x="3980" y="3022"/>
                  <a:pt x="4018" y="2952"/>
                </a:cubicBezTo>
              </a:path>
              <a:path w="944" h="4913">
                <a:moveTo>
                  <a:pt x="4043" y="2704"/>
                </a:moveTo>
                <a:cubicBezTo>
                  <a:pt x="3975" y="2890"/>
                  <a:pt x="3994" y="3077"/>
                  <a:pt x="3994" y="3274"/>
                </a:cubicBezTo>
                <a:cubicBezTo>
                  <a:pt x="3994" y="3316"/>
                  <a:pt x="3994" y="3341"/>
                  <a:pt x="3994" y="3299"/>
                </a:cubicBezTo>
              </a:path>
              <a:path w="944" h="4913">
                <a:moveTo>
                  <a:pt x="4167" y="2604"/>
                </a:moveTo>
                <a:cubicBezTo>
                  <a:pt x="4298" y="2884"/>
                  <a:pt x="4487" y="3260"/>
                  <a:pt x="4242" y="3547"/>
                </a:cubicBezTo>
                <a:cubicBezTo>
                  <a:pt x="4176" y="3588"/>
                  <a:pt x="4109" y="3630"/>
                  <a:pt x="4043" y="3671"/>
                </a:cubicBezTo>
              </a:path>
              <a:path w="944" h="4913">
                <a:moveTo>
                  <a:pt x="3696" y="4043"/>
                </a:moveTo>
                <a:cubicBezTo>
                  <a:pt x="3756" y="4043"/>
                  <a:pt x="3837" y="4060"/>
                  <a:pt x="3845" y="4043"/>
                </a:cubicBezTo>
              </a:path>
              <a:path w="944" h="4913">
                <a:moveTo>
                  <a:pt x="3969" y="3894"/>
                </a:moveTo>
                <a:cubicBezTo>
                  <a:pt x="3976" y="4035"/>
                  <a:pt x="3994" y="4457"/>
                  <a:pt x="3994" y="4316"/>
                </a:cubicBezTo>
                <a:cubicBezTo>
                  <a:pt x="3994" y="4291"/>
                  <a:pt x="3994" y="4267"/>
                  <a:pt x="3994" y="4242"/>
                </a:cubicBezTo>
              </a:path>
              <a:path w="944" h="4913">
                <a:moveTo>
                  <a:pt x="4142" y="3770"/>
                </a:moveTo>
                <a:cubicBezTo>
                  <a:pt x="4202" y="3997"/>
                  <a:pt x="4236" y="4204"/>
                  <a:pt x="4242" y="4440"/>
                </a:cubicBezTo>
                <a:cubicBezTo>
                  <a:pt x="4242" y="4501"/>
                  <a:pt x="4251" y="4517"/>
                  <a:pt x="4217" y="4539"/>
                </a:cubicBezTo>
              </a:path>
              <a:path w="944" h="4913">
                <a:moveTo>
                  <a:pt x="3473" y="5209"/>
                </a:moveTo>
                <a:cubicBezTo>
                  <a:pt x="3507" y="5216"/>
                  <a:pt x="3538" y="5227"/>
                  <a:pt x="3572" y="5234"/>
                </a:cubicBezTo>
              </a:path>
              <a:path w="944" h="4913">
                <a:moveTo>
                  <a:pt x="3870" y="4936"/>
                </a:moveTo>
                <a:lnTo>
                  <a:pt x="3870" y="4986"/>
                </a:lnTo>
                <a:lnTo>
                  <a:pt x="3894" y="5135"/>
                </a:lnTo>
                <a:lnTo>
                  <a:pt x="3894" y="5283"/>
                </a:lnTo>
                <a:lnTo>
                  <a:pt x="3894" y="5358"/>
                </a:lnTo>
                <a:lnTo>
                  <a:pt x="3894" y="5358"/>
                </a:lnTo>
                <a:lnTo>
                  <a:pt x="3894" y="5333"/>
                </a:lnTo>
              </a:path>
              <a:path w="944" h="4913">
                <a:moveTo>
                  <a:pt x="4068" y="4614"/>
                </a:moveTo>
                <a:cubicBezTo>
                  <a:pt x="4188" y="4881"/>
                  <a:pt x="4391" y="5232"/>
                  <a:pt x="4242" y="5531"/>
                </a:cubicBezTo>
                <a:cubicBezTo>
                  <a:pt x="4072" y="5726"/>
                  <a:pt x="4018" y="5789"/>
                  <a:pt x="3870" y="587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3920" y="384120"/>
            <a:ext cx="588960" cy="1625760"/>
          </a:xfrm>
          <a:custGeom>
            <a:avLst/>
            <a:gdLst/>
            <a:ahLst/>
            <a:rect l="l" t="t" r="r" b="b"/>
            <a:pathLst>
              <a:path w="1638" h="4515">
                <a:moveTo>
                  <a:pt x="868" y="1166"/>
                </a:moveTo>
                <a:cubicBezTo>
                  <a:pt x="868" y="1137"/>
                  <a:pt x="753" y="1500"/>
                  <a:pt x="744" y="1563"/>
                </a:cubicBezTo>
                <a:cubicBezTo>
                  <a:pt x="715" y="1775"/>
                  <a:pt x="823" y="1912"/>
                  <a:pt x="1017" y="1984"/>
                </a:cubicBezTo>
                <a:cubicBezTo>
                  <a:pt x="1025" y="1984"/>
                  <a:pt x="1034" y="1984"/>
                  <a:pt x="1042" y="1984"/>
                </a:cubicBezTo>
              </a:path>
              <a:path w="1638" h="4515">
                <a:moveTo>
                  <a:pt x="1042" y="1315"/>
                </a:moveTo>
                <a:cubicBezTo>
                  <a:pt x="960" y="1288"/>
                  <a:pt x="1116" y="1221"/>
                  <a:pt x="1141" y="1215"/>
                </a:cubicBezTo>
                <a:cubicBezTo>
                  <a:pt x="1166" y="1215"/>
                  <a:pt x="1190" y="1215"/>
                  <a:pt x="1215" y="1215"/>
                </a:cubicBezTo>
                <a:cubicBezTo>
                  <a:pt x="1270" y="1342"/>
                  <a:pt x="1231" y="1398"/>
                  <a:pt x="1141" y="1488"/>
                </a:cubicBezTo>
                <a:cubicBezTo>
                  <a:pt x="1098" y="1531"/>
                  <a:pt x="1131" y="1443"/>
                  <a:pt x="1240" y="1513"/>
                </a:cubicBezTo>
                <a:cubicBezTo>
                  <a:pt x="1371" y="1597"/>
                  <a:pt x="1311" y="1745"/>
                  <a:pt x="1191" y="1811"/>
                </a:cubicBezTo>
                <a:cubicBezTo>
                  <a:pt x="1106" y="1858"/>
                  <a:pt x="1024" y="1836"/>
                  <a:pt x="943" y="1811"/>
                </a:cubicBezTo>
              </a:path>
              <a:path w="1638" h="4515">
                <a:moveTo>
                  <a:pt x="1513" y="1687"/>
                </a:moveTo>
                <a:cubicBezTo>
                  <a:pt x="1518" y="1746"/>
                  <a:pt x="1502" y="1875"/>
                  <a:pt x="1563" y="1836"/>
                </a:cubicBezTo>
              </a:path>
              <a:path w="1638" h="4515">
                <a:moveTo>
                  <a:pt x="1687" y="1414"/>
                </a:moveTo>
                <a:cubicBezTo>
                  <a:pt x="1672" y="1475"/>
                  <a:pt x="1624" y="1588"/>
                  <a:pt x="1687" y="1637"/>
                </a:cubicBezTo>
                <a:cubicBezTo>
                  <a:pt x="1791" y="1718"/>
                  <a:pt x="1837" y="1620"/>
                  <a:pt x="1910" y="1563"/>
                </a:cubicBezTo>
                <a:cubicBezTo>
                  <a:pt x="1935" y="1546"/>
                  <a:pt x="1959" y="1530"/>
                  <a:pt x="1984" y="1513"/>
                </a:cubicBezTo>
              </a:path>
              <a:path w="1638" h="4515">
                <a:moveTo>
                  <a:pt x="1935" y="1315"/>
                </a:moveTo>
                <a:cubicBezTo>
                  <a:pt x="1878" y="1427"/>
                  <a:pt x="1910" y="1604"/>
                  <a:pt x="1910" y="1736"/>
                </a:cubicBezTo>
                <a:cubicBezTo>
                  <a:pt x="1910" y="1786"/>
                  <a:pt x="1910" y="1835"/>
                  <a:pt x="1910" y="1885"/>
                </a:cubicBezTo>
              </a:path>
              <a:path w="1638" h="4515">
                <a:moveTo>
                  <a:pt x="1984" y="1067"/>
                </a:moveTo>
                <a:cubicBezTo>
                  <a:pt x="2143" y="1286"/>
                  <a:pt x="2220" y="1451"/>
                  <a:pt x="2183" y="1736"/>
                </a:cubicBezTo>
                <a:cubicBezTo>
                  <a:pt x="2167" y="1859"/>
                  <a:pt x="2116" y="1965"/>
                  <a:pt x="2034" y="2034"/>
                </a:cubicBezTo>
              </a:path>
              <a:path w="1638" h="4515">
                <a:moveTo>
                  <a:pt x="819" y="2257"/>
                </a:moveTo>
                <a:cubicBezTo>
                  <a:pt x="729" y="2471"/>
                  <a:pt x="670" y="2691"/>
                  <a:pt x="670" y="2927"/>
                </a:cubicBezTo>
                <a:cubicBezTo>
                  <a:pt x="670" y="3014"/>
                  <a:pt x="685" y="3233"/>
                  <a:pt x="769" y="3274"/>
                </a:cubicBezTo>
              </a:path>
              <a:path w="1638" h="4515">
                <a:moveTo>
                  <a:pt x="1042" y="2406"/>
                </a:moveTo>
                <a:cubicBezTo>
                  <a:pt x="1104" y="2529"/>
                  <a:pt x="1026" y="2715"/>
                  <a:pt x="1017" y="2853"/>
                </a:cubicBezTo>
                <a:cubicBezTo>
                  <a:pt x="1008" y="2999"/>
                  <a:pt x="1002" y="3067"/>
                  <a:pt x="1067" y="3175"/>
                </a:cubicBezTo>
                <a:cubicBezTo>
                  <a:pt x="1202" y="3100"/>
                  <a:pt x="1265" y="3038"/>
                  <a:pt x="1290" y="2877"/>
                </a:cubicBezTo>
                <a:cubicBezTo>
                  <a:pt x="1290" y="2786"/>
                  <a:pt x="1290" y="2762"/>
                  <a:pt x="1290" y="2704"/>
                </a:cubicBezTo>
                <a:cubicBezTo>
                  <a:pt x="1170" y="2728"/>
                  <a:pt x="1136" y="2916"/>
                  <a:pt x="1116" y="3026"/>
                </a:cubicBezTo>
                <a:cubicBezTo>
                  <a:pt x="1116" y="3116"/>
                  <a:pt x="1109" y="3142"/>
                  <a:pt x="1166" y="3175"/>
                </a:cubicBezTo>
              </a:path>
              <a:path w="1638" h="4515">
                <a:moveTo>
                  <a:pt x="1439" y="2927"/>
                </a:moveTo>
                <a:cubicBezTo>
                  <a:pt x="1457" y="3026"/>
                  <a:pt x="1429" y="3319"/>
                  <a:pt x="1463" y="3225"/>
                </a:cubicBezTo>
                <a:cubicBezTo>
                  <a:pt x="1471" y="3192"/>
                  <a:pt x="1480" y="3158"/>
                  <a:pt x="1488" y="3125"/>
                </a:cubicBezTo>
              </a:path>
              <a:path w="1638" h="4515">
                <a:moveTo>
                  <a:pt x="1588" y="2580"/>
                </a:moveTo>
                <a:cubicBezTo>
                  <a:pt x="1590" y="2595"/>
                  <a:pt x="1600" y="2739"/>
                  <a:pt x="1612" y="2753"/>
                </a:cubicBezTo>
                <a:cubicBezTo>
                  <a:pt x="1676" y="2830"/>
                  <a:pt x="1775" y="2744"/>
                  <a:pt x="1836" y="2729"/>
                </a:cubicBezTo>
              </a:path>
              <a:path w="1638" h="4515">
                <a:moveTo>
                  <a:pt x="1836" y="2505"/>
                </a:moveTo>
                <a:cubicBezTo>
                  <a:pt x="1836" y="2706"/>
                  <a:pt x="1830" y="2903"/>
                  <a:pt x="1860" y="3101"/>
                </a:cubicBezTo>
              </a:path>
              <a:path w="1638" h="4515">
                <a:moveTo>
                  <a:pt x="1885" y="2282"/>
                </a:moveTo>
                <a:cubicBezTo>
                  <a:pt x="2113" y="2448"/>
                  <a:pt x="2135" y="2645"/>
                  <a:pt x="2108" y="2927"/>
                </a:cubicBezTo>
                <a:cubicBezTo>
                  <a:pt x="2092" y="3094"/>
                  <a:pt x="2014" y="3232"/>
                  <a:pt x="1935" y="3373"/>
                </a:cubicBezTo>
              </a:path>
              <a:path w="1638" h="4515">
                <a:moveTo>
                  <a:pt x="719" y="3423"/>
                </a:moveTo>
                <a:cubicBezTo>
                  <a:pt x="626" y="3687"/>
                  <a:pt x="588" y="3942"/>
                  <a:pt x="670" y="4217"/>
                </a:cubicBezTo>
                <a:cubicBezTo>
                  <a:pt x="713" y="4362"/>
                  <a:pt x="762" y="4365"/>
                  <a:pt x="868" y="4341"/>
                </a:cubicBezTo>
              </a:path>
              <a:path w="1638" h="4515">
                <a:moveTo>
                  <a:pt x="992" y="3770"/>
                </a:moveTo>
                <a:cubicBezTo>
                  <a:pt x="1036" y="3713"/>
                  <a:pt x="1103" y="3710"/>
                  <a:pt x="1166" y="3721"/>
                </a:cubicBezTo>
                <a:cubicBezTo>
                  <a:pt x="1239" y="3734"/>
                  <a:pt x="1262" y="3904"/>
                  <a:pt x="1265" y="3969"/>
                </a:cubicBezTo>
                <a:cubicBezTo>
                  <a:pt x="1269" y="4051"/>
                  <a:pt x="1265" y="4135"/>
                  <a:pt x="1265" y="4217"/>
                </a:cubicBezTo>
              </a:path>
              <a:path w="1638" h="4515">
                <a:moveTo>
                  <a:pt x="1439" y="4043"/>
                </a:moveTo>
                <a:cubicBezTo>
                  <a:pt x="1439" y="4117"/>
                  <a:pt x="1439" y="4192"/>
                  <a:pt x="1439" y="4266"/>
                </a:cubicBezTo>
              </a:path>
              <a:path w="1638" h="4515">
                <a:moveTo>
                  <a:pt x="1736" y="3621"/>
                </a:moveTo>
                <a:cubicBezTo>
                  <a:pt x="1745" y="3662"/>
                  <a:pt x="1833" y="4144"/>
                  <a:pt x="1836" y="4142"/>
                </a:cubicBezTo>
                <a:cubicBezTo>
                  <a:pt x="1836" y="4117"/>
                  <a:pt x="1836" y="4093"/>
                  <a:pt x="1836" y="4068"/>
                </a:cubicBezTo>
              </a:path>
              <a:path w="1638" h="4515">
                <a:moveTo>
                  <a:pt x="2034" y="3423"/>
                </a:moveTo>
                <a:cubicBezTo>
                  <a:pt x="2230" y="3647"/>
                  <a:pt x="2357" y="3868"/>
                  <a:pt x="2158" y="4167"/>
                </a:cubicBezTo>
                <a:cubicBezTo>
                  <a:pt x="2125" y="4192"/>
                  <a:pt x="2092" y="4217"/>
                  <a:pt x="2059" y="4242"/>
                </a:cubicBezTo>
              </a:path>
              <a:path w="1638" h="4515">
                <a:moveTo>
                  <a:pt x="794" y="4663"/>
                </a:moveTo>
                <a:cubicBezTo>
                  <a:pt x="759" y="4906"/>
                  <a:pt x="654" y="5139"/>
                  <a:pt x="620" y="5383"/>
                </a:cubicBezTo>
                <a:cubicBezTo>
                  <a:pt x="587" y="5619"/>
                  <a:pt x="724" y="5588"/>
                  <a:pt x="893" y="5556"/>
                </a:cubicBezTo>
              </a:path>
              <a:path w="1638" h="4515">
                <a:moveTo>
                  <a:pt x="1166" y="4862"/>
                </a:moveTo>
                <a:cubicBezTo>
                  <a:pt x="1234" y="4952"/>
                  <a:pt x="1219" y="5124"/>
                  <a:pt x="1240" y="5234"/>
                </a:cubicBezTo>
                <a:cubicBezTo>
                  <a:pt x="1248" y="5267"/>
                  <a:pt x="1257" y="5300"/>
                  <a:pt x="1265" y="5333"/>
                </a:cubicBezTo>
              </a:path>
              <a:path w="1638" h="4515">
                <a:moveTo>
                  <a:pt x="1364" y="5358"/>
                </a:moveTo>
                <a:cubicBezTo>
                  <a:pt x="1364" y="5424"/>
                  <a:pt x="1364" y="5490"/>
                  <a:pt x="1364" y="5556"/>
                </a:cubicBezTo>
              </a:path>
              <a:path w="1638" h="4515">
                <a:moveTo>
                  <a:pt x="1662" y="4911"/>
                </a:moveTo>
                <a:cubicBezTo>
                  <a:pt x="1681" y="5026"/>
                  <a:pt x="1720" y="5142"/>
                  <a:pt x="1736" y="5259"/>
                </a:cubicBezTo>
                <a:cubicBezTo>
                  <a:pt x="1736" y="5275"/>
                  <a:pt x="1736" y="5292"/>
                  <a:pt x="1736" y="5308"/>
                </a:cubicBezTo>
              </a:path>
              <a:path w="1638" h="4515">
                <a:moveTo>
                  <a:pt x="1885" y="4514"/>
                </a:moveTo>
                <a:cubicBezTo>
                  <a:pt x="2028" y="4791"/>
                  <a:pt x="2116" y="5038"/>
                  <a:pt x="2034" y="5358"/>
                </a:cubicBezTo>
                <a:cubicBezTo>
                  <a:pt x="1990" y="5445"/>
                  <a:pt x="1983" y="5468"/>
                  <a:pt x="1935" y="550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8280" y="2840040"/>
            <a:ext cx="669960" cy="1571760"/>
          </a:xfrm>
          <a:custGeom>
            <a:avLst/>
            <a:gdLst/>
            <a:ahLst/>
            <a:rect l="l" t="t" r="r" b="b"/>
            <a:pathLst>
              <a:path w="1861" h="4367">
                <a:moveTo>
                  <a:pt x="595" y="7987"/>
                </a:moveTo>
                <a:cubicBezTo>
                  <a:pt x="536" y="7987"/>
                  <a:pt x="429" y="8321"/>
                  <a:pt x="422" y="8434"/>
                </a:cubicBezTo>
                <a:cubicBezTo>
                  <a:pt x="412" y="8578"/>
                  <a:pt x="489" y="8712"/>
                  <a:pt x="620" y="8756"/>
                </a:cubicBezTo>
              </a:path>
              <a:path w="1861" h="4367">
                <a:moveTo>
                  <a:pt x="868" y="8210"/>
                </a:moveTo>
                <a:cubicBezTo>
                  <a:pt x="894" y="8159"/>
                  <a:pt x="929" y="8159"/>
                  <a:pt x="992" y="8136"/>
                </a:cubicBezTo>
                <a:cubicBezTo>
                  <a:pt x="1023" y="8198"/>
                  <a:pt x="1033" y="8267"/>
                  <a:pt x="992" y="8334"/>
                </a:cubicBezTo>
                <a:cubicBezTo>
                  <a:pt x="969" y="8357"/>
                  <a:pt x="961" y="8368"/>
                  <a:pt x="967" y="8334"/>
                </a:cubicBezTo>
                <a:cubicBezTo>
                  <a:pt x="1084" y="8346"/>
                  <a:pt x="1121" y="8407"/>
                  <a:pt x="1067" y="8533"/>
                </a:cubicBezTo>
                <a:cubicBezTo>
                  <a:pt x="1016" y="8651"/>
                  <a:pt x="901" y="8607"/>
                  <a:pt x="794" y="8607"/>
                </a:cubicBezTo>
              </a:path>
              <a:path w="1861" h="4367">
                <a:moveTo>
                  <a:pt x="1339" y="8508"/>
                </a:moveTo>
                <a:cubicBezTo>
                  <a:pt x="1349" y="8553"/>
                  <a:pt x="1282" y="8738"/>
                  <a:pt x="1265" y="8682"/>
                </a:cubicBezTo>
                <a:cubicBezTo>
                  <a:pt x="1265" y="8641"/>
                  <a:pt x="1265" y="8599"/>
                  <a:pt x="1265" y="8558"/>
                </a:cubicBezTo>
              </a:path>
              <a:path w="1861" h="4367">
                <a:moveTo>
                  <a:pt x="1290" y="8235"/>
                </a:moveTo>
                <a:cubicBezTo>
                  <a:pt x="1350" y="8250"/>
                  <a:pt x="1337" y="8307"/>
                  <a:pt x="1389" y="8334"/>
                </a:cubicBezTo>
                <a:cubicBezTo>
                  <a:pt x="1441" y="8361"/>
                  <a:pt x="1571" y="8355"/>
                  <a:pt x="1612" y="8310"/>
                </a:cubicBezTo>
                <a:cubicBezTo>
                  <a:pt x="1620" y="8293"/>
                  <a:pt x="1629" y="8277"/>
                  <a:pt x="1637" y="8260"/>
                </a:cubicBezTo>
              </a:path>
              <a:path w="1861" h="4367">
                <a:moveTo>
                  <a:pt x="1612" y="8062"/>
                </a:moveTo>
                <a:cubicBezTo>
                  <a:pt x="1634" y="8223"/>
                  <a:pt x="1699" y="8373"/>
                  <a:pt x="1736" y="8533"/>
                </a:cubicBezTo>
                <a:cubicBezTo>
                  <a:pt x="1736" y="8561"/>
                  <a:pt x="1738" y="8572"/>
                  <a:pt x="1761" y="8582"/>
                </a:cubicBezTo>
              </a:path>
              <a:path w="1861" h="4367">
                <a:moveTo>
                  <a:pt x="1736" y="7888"/>
                </a:moveTo>
                <a:cubicBezTo>
                  <a:pt x="1996" y="8065"/>
                  <a:pt x="2182" y="8262"/>
                  <a:pt x="2133" y="8607"/>
                </a:cubicBezTo>
                <a:cubicBezTo>
                  <a:pt x="2067" y="8739"/>
                  <a:pt x="2059" y="8781"/>
                  <a:pt x="1960" y="8806"/>
                </a:cubicBezTo>
              </a:path>
              <a:path w="1861" h="4367">
                <a:moveTo>
                  <a:pt x="695" y="8954"/>
                </a:moveTo>
                <a:cubicBezTo>
                  <a:pt x="524" y="8988"/>
                  <a:pt x="480" y="9246"/>
                  <a:pt x="422" y="9376"/>
                </a:cubicBezTo>
                <a:cubicBezTo>
                  <a:pt x="356" y="9525"/>
                  <a:pt x="318" y="9582"/>
                  <a:pt x="298" y="9723"/>
                </a:cubicBezTo>
              </a:path>
              <a:path w="1861" h="4367">
                <a:moveTo>
                  <a:pt x="819" y="9178"/>
                </a:moveTo>
                <a:cubicBezTo>
                  <a:pt x="797" y="9298"/>
                  <a:pt x="748" y="9412"/>
                  <a:pt x="695" y="9525"/>
                </a:cubicBezTo>
                <a:cubicBezTo>
                  <a:pt x="626" y="9671"/>
                  <a:pt x="781" y="9555"/>
                  <a:pt x="819" y="9525"/>
                </a:cubicBezTo>
                <a:cubicBezTo>
                  <a:pt x="860" y="9492"/>
                  <a:pt x="902" y="9459"/>
                  <a:pt x="943" y="9426"/>
                </a:cubicBezTo>
                <a:cubicBezTo>
                  <a:pt x="983" y="9406"/>
                  <a:pt x="1009" y="9397"/>
                  <a:pt x="967" y="9401"/>
                </a:cubicBezTo>
                <a:cubicBezTo>
                  <a:pt x="869" y="9467"/>
                  <a:pt x="748" y="9533"/>
                  <a:pt x="670" y="9624"/>
                </a:cubicBezTo>
                <a:cubicBezTo>
                  <a:pt x="650" y="9665"/>
                  <a:pt x="631" y="9681"/>
                  <a:pt x="670" y="9674"/>
                </a:cubicBezTo>
              </a:path>
              <a:path w="1861" h="4367">
                <a:moveTo>
                  <a:pt x="1215" y="9525"/>
                </a:moveTo>
                <a:cubicBezTo>
                  <a:pt x="1209" y="9561"/>
                  <a:pt x="1150" y="9825"/>
                  <a:pt x="1141" y="9823"/>
                </a:cubicBezTo>
                <a:cubicBezTo>
                  <a:pt x="1141" y="9798"/>
                  <a:pt x="1141" y="9773"/>
                  <a:pt x="1141" y="9748"/>
                </a:cubicBezTo>
              </a:path>
              <a:path w="1861" h="4367">
                <a:moveTo>
                  <a:pt x="1439" y="9203"/>
                </a:moveTo>
                <a:cubicBezTo>
                  <a:pt x="1439" y="9275"/>
                  <a:pt x="1434" y="9333"/>
                  <a:pt x="1414" y="9401"/>
                </a:cubicBezTo>
                <a:cubicBezTo>
                  <a:pt x="1508" y="9401"/>
                  <a:pt x="1594" y="9383"/>
                  <a:pt x="1687" y="9376"/>
                </a:cubicBezTo>
              </a:path>
              <a:path w="1861" h="4367">
                <a:moveTo>
                  <a:pt x="1662" y="9178"/>
                </a:moveTo>
                <a:cubicBezTo>
                  <a:pt x="1662" y="9211"/>
                  <a:pt x="1682" y="9527"/>
                  <a:pt x="1687" y="9525"/>
                </a:cubicBezTo>
                <a:cubicBezTo>
                  <a:pt x="1695" y="9508"/>
                  <a:pt x="1704" y="9492"/>
                  <a:pt x="1712" y="9475"/>
                </a:cubicBezTo>
              </a:path>
              <a:path w="1861" h="4367">
                <a:moveTo>
                  <a:pt x="1736" y="9004"/>
                </a:moveTo>
                <a:cubicBezTo>
                  <a:pt x="1945" y="9176"/>
                  <a:pt x="2156" y="9358"/>
                  <a:pt x="1910" y="9624"/>
                </a:cubicBezTo>
                <a:cubicBezTo>
                  <a:pt x="1852" y="9665"/>
                  <a:pt x="1794" y="9707"/>
                  <a:pt x="1736" y="9748"/>
                </a:cubicBezTo>
              </a:path>
              <a:path w="1861" h="4367">
                <a:moveTo>
                  <a:pt x="397" y="10071"/>
                </a:moveTo>
                <a:cubicBezTo>
                  <a:pt x="325" y="10306"/>
                  <a:pt x="187" y="10652"/>
                  <a:pt x="322" y="10889"/>
                </a:cubicBezTo>
                <a:cubicBezTo>
                  <a:pt x="415" y="10959"/>
                  <a:pt x="440" y="10984"/>
                  <a:pt x="521" y="10964"/>
                </a:cubicBezTo>
              </a:path>
              <a:path w="1861" h="4367">
                <a:moveTo>
                  <a:pt x="670" y="10294"/>
                </a:moveTo>
                <a:cubicBezTo>
                  <a:pt x="762" y="10282"/>
                  <a:pt x="846" y="10249"/>
                  <a:pt x="943" y="10244"/>
                </a:cubicBezTo>
                <a:cubicBezTo>
                  <a:pt x="951" y="10244"/>
                  <a:pt x="959" y="10244"/>
                  <a:pt x="967" y="10244"/>
                </a:cubicBezTo>
                <a:cubicBezTo>
                  <a:pt x="947" y="10367"/>
                  <a:pt x="935" y="10492"/>
                  <a:pt x="918" y="10616"/>
                </a:cubicBezTo>
                <a:cubicBezTo>
                  <a:pt x="910" y="10649"/>
                  <a:pt x="901" y="10683"/>
                  <a:pt x="893" y="10716"/>
                </a:cubicBezTo>
              </a:path>
              <a:path w="1861" h="4367">
                <a:moveTo>
                  <a:pt x="1215" y="10666"/>
                </a:moveTo>
                <a:cubicBezTo>
                  <a:pt x="1217" y="10705"/>
                  <a:pt x="1199" y="10856"/>
                  <a:pt x="1240" y="10815"/>
                </a:cubicBezTo>
              </a:path>
              <a:path w="1861" h="4367">
                <a:moveTo>
                  <a:pt x="1463" y="10269"/>
                </a:moveTo>
                <a:cubicBezTo>
                  <a:pt x="1525" y="10406"/>
                  <a:pt x="1463" y="10670"/>
                  <a:pt x="1612" y="10691"/>
                </a:cubicBezTo>
                <a:cubicBezTo>
                  <a:pt x="1620" y="10674"/>
                  <a:pt x="1629" y="10658"/>
                  <a:pt x="1637" y="10641"/>
                </a:cubicBezTo>
              </a:path>
              <a:path w="1861" h="4367">
                <a:moveTo>
                  <a:pt x="1687" y="10120"/>
                </a:moveTo>
                <a:cubicBezTo>
                  <a:pt x="1913" y="10296"/>
                  <a:pt x="2142" y="10513"/>
                  <a:pt x="2009" y="10840"/>
                </a:cubicBezTo>
                <a:cubicBezTo>
                  <a:pt x="1968" y="10889"/>
                  <a:pt x="1926" y="10939"/>
                  <a:pt x="1885" y="10988"/>
                </a:cubicBezTo>
              </a:path>
              <a:path w="1861" h="4367">
                <a:moveTo>
                  <a:pt x="620" y="11261"/>
                </a:moveTo>
                <a:cubicBezTo>
                  <a:pt x="443" y="11263"/>
                  <a:pt x="437" y="11684"/>
                  <a:pt x="446" y="11832"/>
                </a:cubicBezTo>
                <a:cubicBezTo>
                  <a:pt x="457" y="12022"/>
                  <a:pt x="503" y="12082"/>
                  <a:pt x="645" y="12129"/>
                </a:cubicBezTo>
              </a:path>
              <a:path w="1861" h="4367">
                <a:moveTo>
                  <a:pt x="868" y="11336"/>
                </a:moveTo>
                <a:cubicBezTo>
                  <a:pt x="877" y="11511"/>
                  <a:pt x="908" y="11682"/>
                  <a:pt x="918" y="11857"/>
                </a:cubicBezTo>
              </a:path>
              <a:path w="1861" h="4367">
                <a:moveTo>
                  <a:pt x="1166" y="11782"/>
                </a:moveTo>
                <a:cubicBezTo>
                  <a:pt x="1181" y="11846"/>
                  <a:pt x="1197" y="11977"/>
                  <a:pt x="1240" y="12005"/>
                </a:cubicBezTo>
              </a:path>
              <a:path w="1861" h="4367">
                <a:moveTo>
                  <a:pt x="1389" y="11509"/>
                </a:moveTo>
                <a:cubicBezTo>
                  <a:pt x="1436" y="11656"/>
                  <a:pt x="1407" y="12087"/>
                  <a:pt x="1488" y="11956"/>
                </a:cubicBezTo>
                <a:cubicBezTo>
                  <a:pt x="1496" y="11931"/>
                  <a:pt x="1505" y="11906"/>
                  <a:pt x="1513" y="11881"/>
                </a:cubicBezTo>
              </a:path>
              <a:path w="1861" h="4367">
                <a:moveTo>
                  <a:pt x="1612" y="11261"/>
                </a:moveTo>
                <a:cubicBezTo>
                  <a:pt x="1952" y="11425"/>
                  <a:pt x="2160" y="11649"/>
                  <a:pt x="1935" y="12055"/>
                </a:cubicBezTo>
                <a:cubicBezTo>
                  <a:pt x="1877" y="12121"/>
                  <a:pt x="1819" y="12188"/>
                  <a:pt x="1761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0040" y="3009960"/>
            <a:ext cx="2508120" cy="98280"/>
          </a:xfrm>
          <a:custGeom>
            <a:avLst/>
            <a:gdLst/>
            <a:ahLst/>
            <a:rect l="l" t="t" r="r" b="b"/>
            <a:pathLst>
              <a:path w="6971" h="274">
                <a:moveTo>
                  <a:pt x="14387" y="8483"/>
                </a:moveTo>
                <a:cubicBezTo>
                  <a:pt x="14432" y="8483"/>
                  <a:pt x="14455" y="8485"/>
                  <a:pt x="14461" y="8434"/>
                </a:cubicBezTo>
                <a:cubicBezTo>
                  <a:pt x="14461" y="8426"/>
                  <a:pt x="14461" y="8417"/>
                  <a:pt x="14461" y="8409"/>
                </a:cubicBezTo>
                <a:cubicBezTo>
                  <a:pt x="14383" y="8465"/>
                  <a:pt x="14367" y="8608"/>
                  <a:pt x="14511" y="8508"/>
                </a:cubicBezTo>
                <a:cubicBezTo>
                  <a:pt x="14632" y="8424"/>
                  <a:pt x="14509" y="8299"/>
                  <a:pt x="14436" y="8384"/>
                </a:cubicBezTo>
                <a:cubicBezTo>
                  <a:pt x="14420" y="8417"/>
                  <a:pt x="14403" y="8450"/>
                  <a:pt x="14387" y="8483"/>
                </a:cubicBezTo>
                <a:cubicBezTo>
                  <a:pt x="14409" y="8550"/>
                  <a:pt x="14491" y="8454"/>
                  <a:pt x="14536" y="8434"/>
                </a:cubicBezTo>
                <a:cubicBezTo>
                  <a:pt x="14544" y="8434"/>
                  <a:pt x="14552" y="8434"/>
                  <a:pt x="14560" y="8434"/>
                </a:cubicBezTo>
              </a:path>
              <a:path w="6971" h="274">
                <a:moveTo>
                  <a:pt x="14412" y="8483"/>
                </a:moveTo>
                <a:cubicBezTo>
                  <a:pt x="14524" y="8470"/>
                  <a:pt x="14638" y="8448"/>
                  <a:pt x="14759" y="8458"/>
                </a:cubicBezTo>
                <a:cubicBezTo>
                  <a:pt x="14875" y="8467"/>
                  <a:pt x="14990" y="8471"/>
                  <a:pt x="15106" y="8483"/>
                </a:cubicBezTo>
                <a:cubicBezTo>
                  <a:pt x="15238" y="8497"/>
                  <a:pt x="15349" y="8508"/>
                  <a:pt x="15478" y="8508"/>
                </a:cubicBezTo>
                <a:cubicBezTo>
                  <a:pt x="15893" y="8508"/>
                  <a:pt x="16306" y="8533"/>
                  <a:pt x="16718" y="8533"/>
                </a:cubicBezTo>
                <a:cubicBezTo>
                  <a:pt x="16876" y="8533"/>
                  <a:pt x="17030" y="8555"/>
                  <a:pt x="17190" y="8558"/>
                </a:cubicBezTo>
                <a:cubicBezTo>
                  <a:pt x="17340" y="8561"/>
                  <a:pt x="17484" y="8580"/>
                  <a:pt x="17636" y="8582"/>
                </a:cubicBezTo>
                <a:cubicBezTo>
                  <a:pt x="17811" y="8585"/>
                  <a:pt x="17981" y="8607"/>
                  <a:pt x="18157" y="8607"/>
                </a:cubicBezTo>
                <a:cubicBezTo>
                  <a:pt x="18337" y="8607"/>
                  <a:pt x="18500" y="8613"/>
                  <a:pt x="18678" y="8607"/>
                </a:cubicBezTo>
                <a:cubicBezTo>
                  <a:pt x="18837" y="8601"/>
                  <a:pt x="18993" y="8591"/>
                  <a:pt x="19149" y="8582"/>
                </a:cubicBezTo>
                <a:cubicBezTo>
                  <a:pt x="19355" y="8570"/>
                  <a:pt x="19563" y="8580"/>
                  <a:pt x="19769" y="8558"/>
                </a:cubicBezTo>
                <a:cubicBezTo>
                  <a:pt x="19944" y="8539"/>
                  <a:pt x="20114" y="8512"/>
                  <a:pt x="20290" y="8508"/>
                </a:cubicBezTo>
                <a:cubicBezTo>
                  <a:pt x="20436" y="8505"/>
                  <a:pt x="20591" y="8498"/>
                  <a:pt x="20737" y="8483"/>
                </a:cubicBezTo>
                <a:cubicBezTo>
                  <a:pt x="20849" y="8471"/>
                  <a:pt x="20970" y="8471"/>
                  <a:pt x="21084" y="8458"/>
                </a:cubicBezTo>
                <a:cubicBezTo>
                  <a:pt x="21145" y="8451"/>
                  <a:pt x="21197" y="8438"/>
                  <a:pt x="21258" y="8434"/>
                </a:cubicBezTo>
                <a:cubicBezTo>
                  <a:pt x="21316" y="8434"/>
                  <a:pt x="21324" y="8434"/>
                  <a:pt x="21357" y="843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41720" y="973080"/>
            <a:ext cx="1312560" cy="125640"/>
          </a:xfrm>
          <a:custGeom>
            <a:avLst/>
            <a:gdLst/>
            <a:ahLst/>
            <a:rect l="l" t="t" r="r" b="b"/>
            <a:pathLst>
              <a:path w="3647" h="348">
                <a:moveTo>
                  <a:pt x="9847" y="2753"/>
                </a:moveTo>
                <a:cubicBezTo>
                  <a:pt x="9811" y="2790"/>
                  <a:pt x="9765" y="2691"/>
                  <a:pt x="9723" y="2753"/>
                </a:cubicBezTo>
                <a:cubicBezTo>
                  <a:pt x="9677" y="2821"/>
                  <a:pt x="9653" y="3046"/>
                  <a:pt x="9748" y="2952"/>
                </a:cubicBezTo>
                <a:cubicBezTo>
                  <a:pt x="9748" y="2928"/>
                  <a:pt x="9754" y="2769"/>
                  <a:pt x="9674" y="2877"/>
                </a:cubicBezTo>
                <a:cubicBezTo>
                  <a:pt x="9594" y="2985"/>
                  <a:pt x="9619" y="2995"/>
                  <a:pt x="9699" y="3051"/>
                </a:cubicBezTo>
                <a:cubicBezTo>
                  <a:pt x="9706" y="3035"/>
                  <a:pt x="9790" y="2812"/>
                  <a:pt x="9723" y="2853"/>
                </a:cubicBezTo>
                <a:cubicBezTo>
                  <a:pt x="9723" y="2861"/>
                  <a:pt x="9723" y="2869"/>
                  <a:pt x="9723" y="2877"/>
                </a:cubicBezTo>
                <a:cubicBezTo>
                  <a:pt x="9690" y="3114"/>
                  <a:pt x="9798" y="2978"/>
                  <a:pt x="9748" y="2853"/>
                </a:cubicBezTo>
                <a:cubicBezTo>
                  <a:pt x="9740" y="2853"/>
                  <a:pt x="9731" y="2853"/>
                  <a:pt x="9723" y="2853"/>
                </a:cubicBezTo>
              </a:path>
              <a:path w="3647" h="348">
                <a:moveTo>
                  <a:pt x="6400" y="2704"/>
                </a:moveTo>
                <a:cubicBezTo>
                  <a:pt x="6339" y="2764"/>
                  <a:pt x="6354" y="2748"/>
                  <a:pt x="6276" y="2729"/>
                </a:cubicBezTo>
                <a:cubicBezTo>
                  <a:pt x="6153" y="2699"/>
                  <a:pt x="6283" y="2973"/>
                  <a:pt x="6300" y="3001"/>
                </a:cubicBezTo>
                <a:cubicBezTo>
                  <a:pt x="6428" y="2967"/>
                  <a:pt x="6472" y="2874"/>
                  <a:pt x="6400" y="2729"/>
                </a:cubicBezTo>
                <a:cubicBezTo>
                  <a:pt x="6368" y="2665"/>
                  <a:pt x="6292" y="2794"/>
                  <a:pt x="6251" y="2853"/>
                </a:cubicBezTo>
                <a:cubicBezTo>
                  <a:pt x="6320" y="2921"/>
                  <a:pt x="6404" y="2924"/>
                  <a:pt x="6424" y="2803"/>
                </a:cubicBezTo>
                <a:cubicBezTo>
                  <a:pt x="6424" y="2786"/>
                  <a:pt x="6424" y="2770"/>
                  <a:pt x="6424" y="2753"/>
                </a:cubicBezTo>
              </a:path>
              <a:path w="3647" h="348">
                <a:moveTo>
                  <a:pt x="6350" y="2853"/>
                </a:moveTo>
                <a:cubicBezTo>
                  <a:pt x="6444" y="2876"/>
                  <a:pt x="6521" y="2877"/>
                  <a:pt x="6623" y="2877"/>
                </a:cubicBezTo>
                <a:cubicBezTo>
                  <a:pt x="6777" y="2877"/>
                  <a:pt x="6919" y="2887"/>
                  <a:pt x="7069" y="2902"/>
                </a:cubicBezTo>
                <a:cubicBezTo>
                  <a:pt x="7190" y="2914"/>
                  <a:pt x="7301" y="2910"/>
                  <a:pt x="7417" y="2902"/>
                </a:cubicBezTo>
                <a:cubicBezTo>
                  <a:pt x="7519" y="2895"/>
                  <a:pt x="7615" y="2888"/>
                  <a:pt x="7714" y="2877"/>
                </a:cubicBezTo>
                <a:cubicBezTo>
                  <a:pt x="7804" y="2867"/>
                  <a:pt x="7899" y="2862"/>
                  <a:pt x="7987" y="2853"/>
                </a:cubicBezTo>
                <a:cubicBezTo>
                  <a:pt x="8094" y="2842"/>
                  <a:pt x="8204" y="2822"/>
                  <a:pt x="8310" y="2803"/>
                </a:cubicBezTo>
                <a:cubicBezTo>
                  <a:pt x="8443" y="2779"/>
                  <a:pt x="8571" y="2742"/>
                  <a:pt x="8706" y="2729"/>
                </a:cubicBezTo>
                <a:cubicBezTo>
                  <a:pt x="8857" y="2715"/>
                  <a:pt x="9007" y="2738"/>
                  <a:pt x="9153" y="2753"/>
                </a:cubicBezTo>
                <a:cubicBezTo>
                  <a:pt x="9253" y="2763"/>
                  <a:pt x="9353" y="2756"/>
                  <a:pt x="9451" y="2778"/>
                </a:cubicBezTo>
                <a:cubicBezTo>
                  <a:pt x="9536" y="2797"/>
                  <a:pt x="9616" y="2810"/>
                  <a:pt x="9699" y="2828"/>
                </a:cubicBezTo>
                <a:cubicBezTo>
                  <a:pt x="9752" y="2839"/>
                  <a:pt x="9803" y="2865"/>
                  <a:pt x="9847" y="2877"/>
                </a:cubicBezTo>
                <a:cubicBezTo>
                  <a:pt x="9855" y="2877"/>
                  <a:pt x="9864" y="2877"/>
                  <a:pt x="9872" y="287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Reflections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9:18:33Z</dcterms:created>
  <dc:creator>deanne elizabeth mcgrath</dc:creator>
  <dc:description/>
  <dc:language>en-US</dc:language>
  <cp:lastModifiedBy>demcgra</cp:lastModifiedBy>
  <dcterms:modified xsi:type="dcterms:W3CDTF">2012-05-10T20:15:08Z</dcterms:modified>
  <cp:revision>4</cp:revision>
  <dc:subject/>
  <dc:title>Warm -up</dc:title>
</cp:coreProperties>
</file>